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2"/>
          </p:nvPr>
        </p:nvSpPr>
        <p:spPr>
          <a:xfrm>
            <a:off x="3594240" y="9240840"/>
            <a:ext cx="290664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36C6DF62-C8AF-46F7-AC0D-96D66915251E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741920" y="152280"/>
            <a:ext cx="1625400" cy="478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15840" y="7588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5480" y="4707000"/>
            <a:ext cx="4962600" cy="440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594240" y="9240840"/>
            <a:ext cx="290664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CE00C978-49D1-40CC-BFA1-3DC0B5146981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99640" y="4701960"/>
            <a:ext cx="49546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594240" y="9240840"/>
            <a:ext cx="290664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D4846427-6DAD-46FA-8F06-EFBAEDBD85E3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99640" y="4701960"/>
            <a:ext cx="49546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15840" y="7588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5480" y="4707000"/>
            <a:ext cx="4962600" cy="440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Tuumikmeesko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594240" y="9240840"/>
            <a:ext cx="290664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87281386-D515-430D-9460-32DEB6AB0250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99640" y="4701960"/>
            <a:ext cx="49546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594240" y="9240840"/>
            <a:ext cx="290664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10B5A300-948C-4B50-BF56-46A7DC0736BF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99640" y="4701960"/>
            <a:ext cx="4954680" cy="44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link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u.samba.org/cgi-bin/sw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5840" y="7588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707000"/>
            <a:ext cx="4962600" cy="440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g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5840" y="7588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707000"/>
            <a:ext cx="4962600" cy="440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t-EE" sz="1200" spc="-1" strike="noStrike">
                <a:solidFill>
                  <a:srgbClr val="000000"/>
                </a:solidFill>
                <a:latin typeface="Times New Roman"/>
              </a:rPr>
              <a:t>otsepöördumine mälu kalla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-- direct memory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3691800"/>
            <a:ext cx="784872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369180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0000" y="369180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2000" y="90792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5920" y="90792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369180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2000" y="369180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5920" y="369180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69180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60000" y="369180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691800"/>
            <a:ext cx="784872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691800"/>
            <a:ext cx="784872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69180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60000" y="369180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000" y="90792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5920" y="90792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69180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2000" y="369180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5920" y="3691800"/>
            <a:ext cx="252720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369180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0" y="369180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0" y="907920"/>
            <a:ext cx="383004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3691800"/>
            <a:ext cx="7848720" cy="25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435400" y="6427800"/>
            <a:ext cx="626400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66ff"/>
                </a:solidFill>
                <a:latin typeface="News Gothic MT"/>
              </a:rPr>
              <a:t>IT Kolledzh/TTÜ E.Domiczi based on T.Tammet     Intro to IT lecture 8     </a:t>
            </a:r>
            <a:r>
              <a:rPr b="1" lang="en-US" sz="1000" spc="-1" strike="noStrike">
                <a:solidFill>
                  <a:srgbClr val="6666ff"/>
                </a:solidFill>
                <a:latin typeface="News Gothic MT"/>
              </a:rPr>
              <a:t>	</a:t>
            </a:r>
            <a:r>
              <a:rPr b="1" lang="en-US" sz="1000" spc="-1" strike="noStrike">
                <a:solidFill>
                  <a:srgbClr val="6666ff"/>
                </a:solidFill>
                <a:latin typeface="News Gothic MT"/>
              </a:rPr>
              <a:t>                pg     - </a:t>
            </a:r>
            <a:fld id="{498161BE-08EC-4A7F-B18E-5A35EEA057DE}" type="slidenum">
              <a:rPr b="1" lang="en-US" sz="1000" spc="-1" strike="noStrike">
                <a:solidFill>
                  <a:srgbClr val="6666ff"/>
                </a:solidFill>
                <a:latin typeface="News Gothic MT"/>
              </a:rPr>
              <a:t>&lt;number&gt;</a:t>
            </a:fld>
            <a:r>
              <a:rPr b="1" lang="en-US" sz="1000" spc="-1" strike="noStrike">
                <a:solidFill>
                  <a:srgbClr val="6666ff"/>
                </a:solidFill>
                <a:latin typeface="News Gothic MT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38080" y="549360"/>
            <a:ext cx="7770600" cy="215640"/>
            <a:chOff x="838080" y="549360"/>
            <a:chExt cx="7770600" cy="215640"/>
          </a:xfrm>
        </p:grpSpPr>
        <p:sp>
          <p:nvSpPr>
            <p:cNvPr id="5" name=""/>
            <p:cNvSpPr/>
            <p:nvPr/>
          </p:nvSpPr>
          <p:spPr>
            <a:xfrm>
              <a:off x="838080" y="76500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8608680" y="549360"/>
              <a:ext cx="0" cy="2145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838080" y="6383160"/>
            <a:ext cx="150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6666ff"/>
                </a:solidFill>
                <a:latin typeface="Arial"/>
                <a:ea typeface="MS Gothic"/>
              </a:rPr>
              <a:t>200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00360" y="6386400"/>
            <a:ext cx="3743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T Kolledzh/TTÜ  E.Domiczi based on T.Tamme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248520"/>
            <a:ext cx="777240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tu.ee/it/vorgutarkvara/wai2030/csapp.beta.11.16.pdf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mputer_program" TargetMode="External"/><Relationship Id="rId2" Type="http://schemas.openxmlformats.org/officeDocument/2006/relationships/hyperlink" Target="http://en.wikipedia.org/wiki/Computer_hardware" TargetMode="External"/><Relationship Id="rId3" Type="http://schemas.openxmlformats.org/officeDocument/2006/relationships/hyperlink" Target="http://en.wikipedia.org/wiki/Software" TargetMode="External"/><Relationship Id="rId4" Type="http://schemas.openxmlformats.org/officeDocument/2006/relationships/hyperlink" Target="http://en.wikipedia.org/wiki/Computer" TargetMode="External"/><Relationship Id="rId5" Type="http://schemas.openxmlformats.org/officeDocument/2006/relationships/hyperlink" Target="http://en.wikipedia.org/wiki/Memory_%28computers%29" TargetMode="External"/><Relationship Id="rId6" Type="http://schemas.openxmlformats.org/officeDocument/2006/relationships/hyperlink" Target="http://en.wikipedia.org/wiki/Computer_networking" TargetMode="External"/><Relationship Id="rId7" Type="http://schemas.openxmlformats.org/officeDocument/2006/relationships/hyperlink" Target="http://en.wikipedia.org/wiki/Computer_file" TargetMode="External"/><Relationship Id="rId8" Type="http://schemas.openxmlformats.org/officeDocument/2006/relationships/hyperlink" Target="http://en.wikipedia.org/wiki/Graphical_user_interface" TargetMode="External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mputer_program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Introduction to Information Technology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14400" y="304920"/>
            <a:ext cx="7770600" cy="303120"/>
            <a:chOff x="914400" y="304920"/>
            <a:chExt cx="7770600" cy="303120"/>
          </a:xfrm>
        </p:grpSpPr>
        <p:sp>
          <p:nvSpPr>
            <p:cNvPr id="93" name=""/>
            <p:cNvSpPr/>
            <p:nvPr/>
          </p:nvSpPr>
          <p:spPr>
            <a:xfrm>
              <a:off x="914400" y="608040"/>
              <a:ext cx="77706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685000" y="304920"/>
              <a:ext cx="0" cy="3016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tran: summing numbers 0…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TRAN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EGER FUNCTI0N sumto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sum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O i 10 = 0,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sum = isum +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0 CONTIN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to = i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ISP: summing numbers 0…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defun sumto 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f (= 0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+ n (sumto (­ n 1))) 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umto and  Modula-2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Modula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CEDURE sumto(n:INTEGER):INTEG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AR sum,i:INTEG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:=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i:=0 TO n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:=sum+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ND sum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umto and Ad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nction sumto(n: in INTEGER) return INTEGER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 : INTEGER :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i in 0..n lo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 := sum + 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nd loo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su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umto and C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C (ja Ja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sumto(int n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i,sum 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(i=0; i&lt;=n; i=i+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 = sum + 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sum; </a:t>
            </a:r>
            <a:r>
              <a:rPr b="1" lang="et-E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Cach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d memory hierarch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ture with explanation on (black)boar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Alternati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the following additional maerial:</a:t>
            </a:r>
            <a:br>
              <a:rPr sz="1800"/>
            </a:b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Computer Systems: a programmers perspectiv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y Operating System (OpSys) 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 basic goals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er programmers a ready standardized “piece” (of software)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ive possibility for the computer user to act homogeneously and as has been used to independently of the programming environment or the computer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OpSys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s can also be programmed without an OpSy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case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reation of every program would be much more difficult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users different programs would look very different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computer progra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hat manages the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2"/>
              </a:rPr>
              <a:t>hardwa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3"/>
              </a:rPr>
              <a:t>softwa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resources of a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4"/>
              </a:rPr>
              <a:t>comput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s basic tasks such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ing and allocating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5"/>
              </a:rPr>
              <a:t>mem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izing system request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ing input and output devic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ilitating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6"/>
              </a:rPr>
              <a:t>network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ing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7"/>
              </a:rPr>
              <a:t>fil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 provide a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8"/>
              </a:rPr>
              <a:t>graphical user interfa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for higher level function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hat OpSys mostly does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read programs from disk and make them run (execute; XEQ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stop programs (finally or for just a short pause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write files and catalogs on a disk and read them from there</a:t>
            </a:r>
            <a:r>
              <a:rPr b="1" lang="et-EE" sz="1600" spc="-1" strike="noStrike">
                <a:solidFill>
                  <a:srgbClr val="cc99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e with device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 (printer, monitor, 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yboard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an communicate with network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would not be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stems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rogram would have to be able to do these things itself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computer progra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hat manages the hardware and software resources of a comput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s basic tasks such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ing and allocating memor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izing system request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ing input and output devic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ilitating networking,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ing fi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 provide a graphical user interface for higher level function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Naked machin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re in the naked machine (unclothed by an OS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registers, opcode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ay be several chunk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ic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apped to memory locations, able to transfer data to and from memor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Definitions of OS!? …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ded machin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or virtual machine. Takes the basic hardware, and provides additional layers of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nctionality. The virtual machine is usually simpler and more consistent than the real machine. Practically,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ditional layers will build on the lowest-level ones, providing a rich programming model for the application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ftware (which in turn provides a 'virtual machine' to the user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ource manag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Allocates scarce resources, like disk space, memory, processor between competing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cesses and users. Each process thinks that it has its own machine (its own files, its own printer, whatever). In a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y, this is also extending the machine (in order to appear to be many machin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thing which runs in the computer's privileged mo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or supervisor mode. Typically most modern processor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ve two or more operating modes, user and supervisor. In supervisor mode, able to access all of memory and all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rdwa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ecture overview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s: basic ideas,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Cac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Oper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main Operating Systems (OpS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Definitions of OS!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oftware which is supplied with the machin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Often includes many things not traditionally considered part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the operating system, like GUIs, editors, Web browsers, and stuff.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platform on which other software can ru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Lots of platforms are not operating systems (like Netscap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vigator, or Microsoft Word). Java is almost an operating system. Provides many services commonly associate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th Operating Systems, like managing multiple concurrent processes, and providing access to fi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velopment History of Operating System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uters without Op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tch process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ltiprocessing and terminals -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 computers - IBM, Xerox, Apple, DOS,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he Role of the Opsy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59000" y="1698480"/>
            <a:ext cx="5011920" cy="4305600"/>
            <a:chOff x="2259000" y="1698480"/>
            <a:chExt cx="5011920" cy="4305600"/>
          </a:xfrm>
        </p:grpSpPr>
        <p:grpSp>
          <p:nvGrpSpPr>
            <p:cNvPr id="137" name=""/>
            <p:cNvGrpSpPr/>
            <p:nvPr/>
          </p:nvGrpSpPr>
          <p:grpSpPr>
            <a:xfrm>
              <a:off x="2259000" y="4956120"/>
              <a:ext cx="5011920" cy="1047960"/>
              <a:chOff x="2259000" y="4956120"/>
              <a:chExt cx="5011920" cy="1047960"/>
            </a:xfrm>
          </p:grpSpPr>
          <p:sp>
            <p:nvSpPr>
              <p:cNvPr id="138" name=""/>
              <p:cNvSpPr/>
              <p:nvPr/>
            </p:nvSpPr>
            <p:spPr>
              <a:xfrm>
                <a:off x="2335320" y="4956120"/>
                <a:ext cx="306360" cy="290520"/>
              </a:xfrm>
              <a:custGeom>
                <a:avLst/>
                <a:gdLst/>
                <a:ahLst/>
                <a:rect l="l" t="t" r="r" b="b"/>
                <a:pathLst>
                  <a:path w="193" h="183">
                    <a:moveTo>
                      <a:pt x="12" y="181"/>
                    </a:moveTo>
                    <a:lnTo>
                      <a:pt x="0" y="183"/>
                    </a:lnTo>
                    <a:lnTo>
                      <a:pt x="181" y="1"/>
                    </a:lnTo>
                    <a:lnTo>
                      <a:pt x="193" y="0"/>
                    </a:lnTo>
                    <a:lnTo>
                      <a:pt x="12" y="181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346480" y="4956120"/>
                <a:ext cx="295200" cy="287280"/>
              </a:xfrm>
              <a:custGeom>
                <a:avLst/>
                <a:gdLst/>
                <a:ahLst/>
                <a:rect l="l" t="t" r="r" b="b"/>
                <a:pathLst>
                  <a:path w="186" h="181">
                    <a:moveTo>
                      <a:pt x="5" y="181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6" y="0"/>
                    </a:lnTo>
                    <a:lnTo>
                      <a:pt x="5" y="181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41440" y="4956120"/>
                <a:ext cx="295560" cy="290520"/>
              </a:xfrm>
              <a:custGeom>
                <a:avLst/>
                <a:gdLst/>
                <a:ahLst/>
                <a:rect l="l" t="t" r="r" b="b"/>
                <a:pathLst>
                  <a:path w="186" h="183">
                    <a:moveTo>
                      <a:pt x="3" y="181"/>
                    </a:moveTo>
                    <a:lnTo>
                      <a:pt x="0" y="183"/>
                    </a:lnTo>
                    <a:lnTo>
                      <a:pt x="181" y="1"/>
                    </a:lnTo>
                    <a:lnTo>
                      <a:pt x="186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8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35320" y="4957920"/>
                <a:ext cx="293760" cy="28872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8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16240" y="4957920"/>
                <a:ext cx="306360" cy="293400"/>
              </a:xfrm>
              <a:custGeom>
                <a:avLst/>
                <a:gdLst/>
                <a:ahLst/>
                <a:rect l="l" t="t" r="r" b="b"/>
                <a:pathLst>
                  <a:path w="193" h="185">
                    <a:moveTo>
                      <a:pt x="12" y="182"/>
                    </a:moveTo>
                    <a:lnTo>
                      <a:pt x="0" y="185"/>
                    </a:lnTo>
                    <a:lnTo>
                      <a:pt x="181" y="4"/>
                    </a:lnTo>
                    <a:lnTo>
                      <a:pt x="193" y="0"/>
                    </a:lnTo>
                    <a:lnTo>
                      <a:pt x="12" y="182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324160" y="4957920"/>
                <a:ext cx="298440" cy="290520"/>
              </a:xfrm>
              <a:custGeom>
                <a:avLst/>
                <a:gdLst/>
                <a:ahLst/>
                <a:rect l="l" t="t" r="r" b="b"/>
                <a:pathLst>
                  <a:path w="188" h="183">
                    <a:moveTo>
                      <a:pt x="7" y="182"/>
                    </a:moveTo>
                    <a:lnTo>
                      <a:pt x="0" y="183"/>
                    </a:lnTo>
                    <a:lnTo>
                      <a:pt x="183" y="2"/>
                    </a:lnTo>
                    <a:lnTo>
                      <a:pt x="188" y="0"/>
                    </a:lnTo>
                    <a:lnTo>
                      <a:pt x="7" y="182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16240" y="4960800"/>
                <a:ext cx="298440" cy="290520"/>
              </a:xfrm>
              <a:custGeom>
                <a:avLst/>
                <a:gdLst/>
                <a:ahLst/>
                <a:rect l="l" t="t" r="r" b="b"/>
                <a:pathLst>
                  <a:path w="188" h="183">
                    <a:moveTo>
                      <a:pt x="5" y="181"/>
                    </a:moveTo>
                    <a:lnTo>
                      <a:pt x="0" y="183"/>
                    </a:lnTo>
                    <a:lnTo>
                      <a:pt x="181" y="2"/>
                    </a:lnTo>
                    <a:lnTo>
                      <a:pt x="188" y="0"/>
                    </a:lnTo>
                    <a:lnTo>
                      <a:pt x="5" y="181"/>
                    </a:lnTo>
                    <a:close/>
                  </a:path>
                </a:pathLst>
              </a:custGeom>
              <a:solidFill>
                <a:srgbClr val="89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300400" y="4964040"/>
                <a:ext cx="303120" cy="295200"/>
              </a:xfrm>
              <a:custGeom>
                <a:avLst/>
                <a:gdLst/>
                <a:ahLst/>
                <a:rect l="l" t="t" r="r" b="b"/>
                <a:pathLst>
                  <a:path w="191" h="186">
                    <a:moveTo>
                      <a:pt x="10" y="181"/>
                    </a:moveTo>
                    <a:lnTo>
                      <a:pt x="0" y="186"/>
                    </a:lnTo>
                    <a:lnTo>
                      <a:pt x="181" y="5"/>
                    </a:lnTo>
                    <a:lnTo>
                      <a:pt x="191" y="0"/>
                    </a:lnTo>
                    <a:lnTo>
                      <a:pt x="10" y="181"/>
                    </a:lnTo>
                    <a:close/>
                  </a:path>
                </a:pathLst>
              </a:custGeom>
              <a:solidFill>
                <a:srgbClr val="8f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86000" y="4971960"/>
                <a:ext cx="301680" cy="2984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9" y="181"/>
                    </a:moveTo>
                    <a:lnTo>
                      <a:pt x="0" y="188"/>
                    </a:lnTo>
                    <a:lnTo>
                      <a:pt x="182" y="7"/>
                    </a:lnTo>
                    <a:lnTo>
                      <a:pt x="190" y="0"/>
                    </a:lnTo>
                    <a:lnTo>
                      <a:pt x="9" y="181"/>
                    </a:lnTo>
                    <a:close/>
                  </a:path>
                </a:pathLst>
              </a:custGeom>
              <a:solidFill>
                <a:srgbClr val="9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56280" y="5675400"/>
                <a:ext cx="298440" cy="301680"/>
              </a:xfrm>
              <a:custGeom>
                <a:avLst/>
                <a:gdLst/>
                <a:ahLst/>
                <a:rect l="l" t="t" r="r" b="b"/>
                <a:pathLst>
                  <a:path w="188" h="190">
                    <a:moveTo>
                      <a:pt x="0" y="190"/>
                    </a:moveTo>
                    <a:lnTo>
                      <a:pt x="7" y="181"/>
                    </a:lnTo>
                    <a:lnTo>
                      <a:pt x="188" y="0"/>
                    </a:lnTo>
                    <a:lnTo>
                      <a:pt x="181" y="8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a2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67440" y="5659560"/>
                <a:ext cx="295200" cy="303120"/>
              </a:xfrm>
              <a:custGeom>
                <a:avLst/>
                <a:gdLst/>
                <a:ahLst/>
                <a:rect l="l" t="t" r="r" b="b"/>
                <a:pathLst>
                  <a:path w="186" h="191">
                    <a:moveTo>
                      <a:pt x="0" y="191"/>
                    </a:moveTo>
                    <a:lnTo>
                      <a:pt x="5" y="181"/>
                    </a:lnTo>
                    <a:lnTo>
                      <a:pt x="186" y="0"/>
                    </a:lnTo>
                    <a:lnTo>
                      <a:pt x="181" y="1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a9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75360" y="5640480"/>
                <a:ext cx="292320" cy="306360"/>
              </a:xfrm>
              <a:custGeom>
                <a:avLst/>
                <a:gdLst/>
                <a:ahLst/>
                <a:rect l="l" t="t" r="r" b="b"/>
                <a:pathLst>
                  <a:path w="184" h="193">
                    <a:moveTo>
                      <a:pt x="0" y="193"/>
                    </a:moveTo>
                    <a:lnTo>
                      <a:pt x="3" y="181"/>
                    </a:lnTo>
                    <a:lnTo>
                      <a:pt x="184" y="0"/>
                    </a:lnTo>
                    <a:lnTo>
                      <a:pt x="181" y="12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75360" y="564840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1" y="183"/>
                    </a:lnTo>
                    <a:lnTo>
                      <a:pt x="183" y="0"/>
                    </a:lnTo>
                    <a:lnTo>
                      <a:pt x="181" y="7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977160" y="564048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2" y="5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b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980400" y="5621400"/>
                <a:ext cx="290520" cy="306360"/>
              </a:xfrm>
              <a:custGeom>
                <a:avLst/>
                <a:gdLst/>
                <a:ahLst/>
                <a:rect l="l" t="t" r="r" b="b"/>
                <a:pathLst>
                  <a:path w="183" h="193">
                    <a:moveTo>
                      <a:pt x="0" y="193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1" y="12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b2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980400" y="5630760"/>
                <a:ext cx="290520" cy="29700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0" y="187"/>
                    </a:moveTo>
                    <a:lnTo>
                      <a:pt x="0" y="182"/>
                    </a:lnTo>
                    <a:lnTo>
                      <a:pt x="183" y="0"/>
                    </a:lnTo>
                    <a:lnTo>
                      <a:pt x="181" y="6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b2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80400" y="562140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983280" y="5051520"/>
                <a:ext cx="287640" cy="857160"/>
              </a:xfrm>
              <a:custGeom>
                <a:avLst/>
                <a:gdLst/>
                <a:ahLst/>
                <a:rect l="l" t="t" r="r" b="b"/>
                <a:pathLst>
                  <a:path w="181" h="540">
                    <a:moveTo>
                      <a:pt x="0" y="540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1" y="359"/>
                    </a:lnTo>
                    <a:lnTo>
                      <a:pt x="0" y="540"/>
                    </a:lnTo>
                    <a:close/>
                  </a:path>
                </a:pathLst>
              </a:custGeom>
              <a:solidFill>
                <a:srgbClr val="b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980400" y="5032440"/>
                <a:ext cx="290520" cy="306360"/>
              </a:xfrm>
              <a:custGeom>
                <a:avLst/>
                <a:gdLst/>
                <a:ahLst/>
                <a:rect l="l" t="t" r="r" b="b"/>
                <a:pathLst>
                  <a:path w="183" h="193">
                    <a:moveTo>
                      <a:pt x="2" y="19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12"/>
                    </a:lnTo>
                    <a:lnTo>
                      <a:pt x="2" y="193"/>
                    </a:lnTo>
                    <a:close/>
                  </a:path>
                </a:pathLst>
              </a:custGeom>
              <a:solidFill>
                <a:srgbClr val="b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980400" y="5041800"/>
                <a:ext cx="290520" cy="29700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2" y="187"/>
                    </a:moveTo>
                    <a:lnTo>
                      <a:pt x="0" y="182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2" y="187"/>
                    </a:lnTo>
                    <a:close/>
                  </a:path>
                </a:pathLst>
              </a:custGeom>
              <a:solidFill>
                <a:srgbClr val="b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980400" y="503244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6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975360" y="5013360"/>
                <a:ext cx="292320" cy="306360"/>
              </a:xfrm>
              <a:custGeom>
                <a:avLst/>
                <a:gdLst/>
                <a:ahLst/>
                <a:rect l="l" t="t" r="r" b="b"/>
                <a:pathLst>
                  <a:path w="184" h="193">
                    <a:moveTo>
                      <a:pt x="3" y="193"/>
                    </a:moveTo>
                    <a:lnTo>
                      <a:pt x="0" y="183"/>
                    </a:lnTo>
                    <a:lnTo>
                      <a:pt x="181" y="0"/>
                    </a:lnTo>
                    <a:lnTo>
                      <a:pt x="184" y="12"/>
                    </a:lnTo>
                    <a:lnTo>
                      <a:pt x="3" y="193"/>
                    </a:lnTo>
                    <a:close/>
                  </a:path>
                </a:pathLst>
              </a:custGeom>
              <a:solidFill>
                <a:srgbClr val="b2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980400" y="5025960"/>
                <a:ext cx="287280" cy="29376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0" y="185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1" y="4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2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977160" y="502272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b1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77160" y="5018040"/>
                <a:ext cx="288720" cy="293760"/>
              </a:xfrm>
              <a:custGeom>
                <a:avLst/>
                <a:gdLst/>
                <a:ahLst/>
                <a:rect l="l" t="t" r="r" b="b"/>
                <a:pathLst>
                  <a:path w="182" h="185">
                    <a:moveTo>
                      <a:pt x="0" y="185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2" y="3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75360" y="5013360"/>
                <a:ext cx="290520" cy="29196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" y="184"/>
                    </a:moveTo>
                    <a:lnTo>
                      <a:pt x="0" y="183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af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967440" y="4998960"/>
                <a:ext cx="295200" cy="304920"/>
              </a:xfrm>
              <a:custGeom>
                <a:avLst/>
                <a:gdLst/>
                <a:ahLst/>
                <a:rect l="l" t="t" r="r" b="b"/>
                <a:pathLst>
                  <a:path w="186" h="192">
                    <a:moveTo>
                      <a:pt x="5" y="192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6" y="9"/>
                    </a:lnTo>
                    <a:lnTo>
                      <a:pt x="5" y="192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972480" y="5010120"/>
                <a:ext cx="290160" cy="293760"/>
              </a:xfrm>
              <a:custGeom>
                <a:avLst/>
                <a:gdLst/>
                <a:ahLst/>
                <a:rect l="l" t="t" r="r" b="b"/>
                <a:pathLst>
                  <a:path w="183" h="185">
                    <a:moveTo>
                      <a:pt x="2" y="185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5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969240" y="500688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ac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969240" y="5002200"/>
                <a:ext cx="290520" cy="29196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0" y="184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3" y="3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b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967440" y="499896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1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aa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56280" y="4983120"/>
                <a:ext cx="298440" cy="303120"/>
              </a:xfrm>
              <a:custGeom>
                <a:avLst/>
                <a:gdLst/>
                <a:ahLst/>
                <a:rect l="l" t="t" r="r" b="b"/>
                <a:pathLst>
                  <a:path w="188" h="191">
                    <a:moveTo>
                      <a:pt x="7" y="19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8" y="10"/>
                    </a:lnTo>
                    <a:lnTo>
                      <a:pt x="7" y="191"/>
                    </a:lnTo>
                    <a:close/>
                  </a:path>
                </a:pathLst>
              </a:custGeom>
              <a:solidFill>
                <a:srgbClr val="a9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964200" y="4994280"/>
                <a:ext cx="290520" cy="29196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2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a9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61320" y="499104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a7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958080" y="498780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a5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956280" y="498312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a3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940440" y="4971960"/>
                <a:ext cx="303480" cy="298440"/>
              </a:xfrm>
              <a:custGeom>
                <a:avLst/>
                <a:gdLst/>
                <a:ahLst/>
                <a:rect l="l" t="t" r="r" b="b"/>
                <a:pathLst>
                  <a:path w="191" h="188">
                    <a:moveTo>
                      <a:pt x="10" y="188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91" y="7"/>
                    </a:lnTo>
                    <a:lnTo>
                      <a:pt x="10" y="188"/>
                    </a:lnTo>
                    <a:close/>
                  </a:path>
                </a:pathLst>
              </a:custGeom>
              <a:solidFill>
                <a:srgbClr val="a2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950160" y="497988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a2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48360" y="497664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1" y="183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9f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945480" y="497520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1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9d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940440" y="4971960"/>
                <a:ext cx="292320" cy="29052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3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4" y="2"/>
                    </a:lnTo>
                    <a:lnTo>
                      <a:pt x="3" y="183"/>
                    </a:lnTo>
                    <a:close/>
                  </a:path>
                </a:pathLst>
              </a:custGeom>
              <a:solidFill>
                <a:srgbClr val="9b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23160" y="4964040"/>
                <a:ext cx="304560" cy="295200"/>
              </a:xfrm>
              <a:custGeom>
                <a:avLst/>
                <a:gdLst/>
                <a:ahLst/>
                <a:rect l="l" t="t" r="r" b="b"/>
                <a:pathLst>
                  <a:path w="192" h="186">
                    <a:moveTo>
                      <a:pt x="11" y="186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92" y="5"/>
                    </a:lnTo>
                    <a:lnTo>
                      <a:pt x="11" y="186"/>
                    </a:lnTo>
                    <a:close/>
                  </a:path>
                </a:pathLst>
              </a:custGeom>
              <a:solidFill>
                <a:srgbClr val="9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937200" y="496872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9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931080" y="4967280"/>
                <a:ext cx="293760" cy="28908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5" y="1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96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29280" y="4967280"/>
                <a:ext cx="290520" cy="289080"/>
              </a:xfrm>
              <a:custGeom>
                <a:avLst/>
                <a:gdLst/>
                <a:ahLst/>
                <a:rect l="l" t="t" r="r" b="b"/>
                <a:pathLst>
                  <a:path w="183" h="182">
                    <a:moveTo>
                      <a:pt x="1" y="182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0"/>
                    </a:lnTo>
                    <a:lnTo>
                      <a:pt x="1" y="182"/>
                    </a:lnTo>
                    <a:close/>
                  </a:path>
                </a:pathLst>
              </a:custGeom>
              <a:solidFill>
                <a:srgbClr val="94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923160" y="496404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91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907320" y="4957920"/>
                <a:ext cx="306360" cy="293400"/>
              </a:xfrm>
              <a:custGeom>
                <a:avLst/>
                <a:gdLst/>
                <a:ahLst/>
                <a:rect l="l" t="t" r="r" b="b"/>
                <a:pathLst>
                  <a:path w="193" h="185">
                    <a:moveTo>
                      <a:pt x="10" y="185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93" y="4"/>
                    </a:lnTo>
                    <a:lnTo>
                      <a:pt x="10" y="185"/>
                    </a:lnTo>
                    <a:close/>
                  </a:path>
                </a:pathLst>
              </a:custGeom>
              <a:solidFill>
                <a:srgbClr val="8f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921360" y="4960800"/>
                <a:ext cx="292320" cy="29052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1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4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8f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915240" y="4960800"/>
                <a:ext cx="293760" cy="287640"/>
              </a:xfrm>
              <a:custGeom>
                <a:avLst/>
                <a:gdLst/>
                <a:ahLst/>
                <a:rect l="l" t="t" r="r" b="b"/>
                <a:pathLst>
                  <a:path w="185" h="181">
                    <a:moveTo>
                      <a:pt x="4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4" y="181"/>
                    </a:lnTo>
                    <a:close/>
                  </a:path>
                </a:pathLst>
              </a:custGeom>
              <a:solidFill>
                <a:srgbClr val="8c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12000" y="495792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89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907320" y="4957920"/>
                <a:ext cx="293760" cy="28872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3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2"/>
                    </a:lnTo>
                    <a:close/>
                  </a:path>
                </a:pathLst>
              </a:custGeom>
              <a:solidFill>
                <a:srgbClr val="86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88240" y="4956120"/>
                <a:ext cx="306360" cy="290520"/>
              </a:xfrm>
              <a:custGeom>
                <a:avLst/>
                <a:gdLst/>
                <a:ahLst/>
                <a:rect l="l" t="t" r="r" b="b"/>
                <a:pathLst>
                  <a:path w="193" h="183">
                    <a:moveTo>
                      <a:pt x="1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93" y="1"/>
                    </a:lnTo>
                    <a:lnTo>
                      <a:pt x="12" y="183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02280" y="4957920"/>
                <a:ext cx="292320" cy="288720"/>
              </a:xfrm>
              <a:custGeom>
                <a:avLst/>
                <a:gdLst/>
                <a:ahLst/>
                <a:rect l="l" t="t" r="r" b="b"/>
                <a:pathLst>
                  <a:path w="184" h="182">
                    <a:moveTo>
                      <a:pt x="3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4" y="0"/>
                    </a:lnTo>
                    <a:lnTo>
                      <a:pt x="3" y="182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892920" y="4956120"/>
                <a:ext cx="297000" cy="290520"/>
              </a:xfrm>
              <a:custGeom>
                <a:avLst/>
                <a:gdLst/>
                <a:ahLst/>
                <a:rect l="l" t="t" r="r" b="b"/>
                <a:pathLst>
                  <a:path w="187" h="183">
                    <a:moveTo>
                      <a:pt x="6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7" y="1"/>
                    </a:lnTo>
                    <a:lnTo>
                      <a:pt x="6" y="183"/>
                    </a:lnTo>
                    <a:close/>
                  </a:path>
                </a:pathLst>
              </a:custGeom>
              <a:solidFill>
                <a:srgbClr val="8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888240" y="4956120"/>
                <a:ext cx="293760" cy="287280"/>
              </a:xfrm>
              <a:custGeom>
                <a:avLst/>
                <a:gdLst/>
                <a:ahLst/>
                <a:rect l="l" t="t" r="r" b="b"/>
                <a:pathLst>
                  <a:path w="185" h="181">
                    <a:moveTo>
                      <a:pt x="3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7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54400" y="4956120"/>
                <a:ext cx="4821120" cy="287280"/>
              </a:xfrm>
              <a:custGeom>
                <a:avLst/>
                <a:gdLst/>
                <a:ahLst/>
                <a:rect l="l" t="t" r="r" b="b"/>
                <a:pathLst>
                  <a:path w="3037" h="181">
                    <a:moveTo>
                      <a:pt x="2856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3037" y="0"/>
                    </a:lnTo>
                    <a:lnTo>
                      <a:pt x="2856" y="181"/>
                    </a:lnTo>
                    <a:close/>
                  </a:path>
                </a:pathLst>
              </a:custGeom>
              <a:solidFill>
                <a:srgbClr val="79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59000" y="5243400"/>
                <a:ext cx="4724280" cy="760680"/>
              </a:xfrm>
              <a:custGeom>
                <a:avLst/>
                <a:gdLst/>
                <a:ahLst/>
                <a:rect l="l" t="t" r="r" b="b"/>
                <a:pathLst>
                  <a:path w="2976" h="479">
                    <a:moveTo>
                      <a:pt x="60" y="0"/>
                    </a:moveTo>
                    <a:lnTo>
                      <a:pt x="48" y="2"/>
                    </a:lnTo>
                    <a:lnTo>
                      <a:pt x="36" y="5"/>
                    </a:lnTo>
                    <a:lnTo>
                      <a:pt x="26" y="10"/>
                    </a:lnTo>
                    <a:lnTo>
                      <a:pt x="17" y="17"/>
                    </a:lnTo>
                    <a:lnTo>
                      <a:pt x="11" y="27"/>
                    </a:lnTo>
                    <a:lnTo>
                      <a:pt x="5" y="38"/>
                    </a:lnTo>
                    <a:lnTo>
                      <a:pt x="2" y="48"/>
                    </a:lnTo>
                    <a:lnTo>
                      <a:pt x="0" y="60"/>
                    </a:lnTo>
                    <a:lnTo>
                      <a:pt x="0" y="419"/>
                    </a:lnTo>
                    <a:lnTo>
                      <a:pt x="2" y="431"/>
                    </a:lnTo>
                    <a:lnTo>
                      <a:pt x="5" y="443"/>
                    </a:lnTo>
                    <a:lnTo>
                      <a:pt x="11" y="453"/>
                    </a:lnTo>
                    <a:lnTo>
                      <a:pt x="17" y="462"/>
                    </a:lnTo>
                    <a:lnTo>
                      <a:pt x="26" y="468"/>
                    </a:lnTo>
                    <a:lnTo>
                      <a:pt x="36" y="474"/>
                    </a:lnTo>
                    <a:lnTo>
                      <a:pt x="48" y="477"/>
                    </a:lnTo>
                    <a:lnTo>
                      <a:pt x="60" y="479"/>
                    </a:lnTo>
                    <a:lnTo>
                      <a:pt x="2916" y="479"/>
                    </a:lnTo>
                    <a:lnTo>
                      <a:pt x="2928" y="477"/>
                    </a:lnTo>
                    <a:lnTo>
                      <a:pt x="2938" y="474"/>
                    </a:lnTo>
                    <a:lnTo>
                      <a:pt x="2949" y="468"/>
                    </a:lnTo>
                    <a:lnTo>
                      <a:pt x="2959" y="462"/>
                    </a:lnTo>
                    <a:lnTo>
                      <a:pt x="2966" y="453"/>
                    </a:lnTo>
                    <a:lnTo>
                      <a:pt x="2971" y="443"/>
                    </a:lnTo>
                    <a:lnTo>
                      <a:pt x="2974" y="431"/>
                    </a:lnTo>
                    <a:lnTo>
                      <a:pt x="2976" y="419"/>
                    </a:lnTo>
                    <a:lnTo>
                      <a:pt x="2976" y="60"/>
                    </a:lnTo>
                    <a:lnTo>
                      <a:pt x="2974" y="48"/>
                    </a:lnTo>
                    <a:lnTo>
                      <a:pt x="2971" y="38"/>
                    </a:lnTo>
                    <a:lnTo>
                      <a:pt x="2966" y="27"/>
                    </a:lnTo>
                    <a:lnTo>
                      <a:pt x="2959" y="17"/>
                    </a:lnTo>
                    <a:lnTo>
                      <a:pt x="2949" y="10"/>
                    </a:lnTo>
                    <a:lnTo>
                      <a:pt x="2938" y="5"/>
                    </a:lnTo>
                    <a:lnTo>
                      <a:pt x="2928" y="2"/>
                    </a:lnTo>
                    <a:lnTo>
                      <a:pt x="2916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9c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3657960" y="5369040"/>
              <a:ext cx="1478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843520" y="4141800"/>
              <a:ext cx="1152720" cy="1101600"/>
              <a:chOff x="5843520" y="4141800"/>
              <a:chExt cx="1152720" cy="1101600"/>
            </a:xfrm>
          </p:grpSpPr>
          <p:sp>
            <p:nvSpPr>
              <p:cNvPr id="197" name=""/>
              <p:cNvSpPr/>
              <p:nvPr/>
            </p:nvSpPr>
            <p:spPr>
              <a:xfrm>
                <a:off x="5843520" y="4141800"/>
                <a:ext cx="719280" cy="450720"/>
              </a:xfrm>
              <a:custGeom>
                <a:avLst/>
                <a:gdLst/>
                <a:ahLst/>
                <a:rect l="l" t="t" r="r" b="b"/>
                <a:pathLst>
                  <a:path w="453" h="284">
                    <a:moveTo>
                      <a:pt x="272" y="181"/>
                    </a:moveTo>
                    <a:lnTo>
                      <a:pt x="0" y="284"/>
                    </a:lnTo>
                    <a:lnTo>
                      <a:pt x="181" y="102"/>
                    </a:lnTo>
                    <a:lnTo>
                      <a:pt x="453" y="0"/>
                    </a:lnTo>
                    <a:lnTo>
                      <a:pt x="272" y="181"/>
                    </a:lnTo>
                    <a:close/>
                  </a:path>
                </a:pathLst>
              </a:custGeom>
              <a:solidFill>
                <a:srgbClr val="8d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43520" y="4792680"/>
                <a:ext cx="504720" cy="28728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136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318" y="0"/>
                    </a:lnTo>
                    <a:lnTo>
                      <a:pt x="136" y="181"/>
                    </a:lnTo>
                    <a:close/>
                  </a:path>
                </a:pathLst>
              </a:custGeom>
              <a:solidFill>
                <a:srgbClr val="795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91160" y="4792680"/>
                <a:ext cx="505080" cy="28728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137" y="181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318" y="0"/>
                    </a:lnTo>
                    <a:lnTo>
                      <a:pt x="137" y="181"/>
                    </a:lnTo>
                    <a:close/>
                  </a:path>
                </a:pathLst>
              </a:custGeom>
              <a:solidFill>
                <a:srgbClr val="795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491160" y="4303800"/>
                <a:ext cx="289080" cy="776160"/>
              </a:xfrm>
              <a:custGeom>
                <a:avLst/>
                <a:gdLst/>
                <a:ahLst/>
                <a:rect l="l" t="t" r="r" b="b"/>
                <a:pathLst>
                  <a:path w="182" h="489">
                    <a:moveTo>
                      <a:pt x="0" y="489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2" y="30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b38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75520" y="4141800"/>
                <a:ext cx="720720" cy="450720"/>
              </a:xfrm>
              <a:custGeom>
                <a:avLst/>
                <a:gdLst/>
                <a:ahLst/>
                <a:rect l="l" t="t" r="r" b="b"/>
                <a:pathLst>
                  <a:path w="454" h="284">
                    <a:moveTo>
                      <a:pt x="273" y="2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454" y="102"/>
                    </a:lnTo>
                    <a:lnTo>
                      <a:pt x="273" y="284"/>
                    </a:lnTo>
                    <a:close/>
                  </a:path>
                </a:pathLst>
              </a:custGeom>
              <a:solidFill>
                <a:srgbClr val="8d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43520" y="4429080"/>
                <a:ext cx="865080" cy="814320"/>
              </a:xfrm>
              <a:custGeom>
                <a:avLst/>
                <a:gdLst/>
                <a:ahLst/>
                <a:rect l="l" t="t" r="r" b="b"/>
                <a:pathLst>
                  <a:path w="545" h="513">
                    <a:moveTo>
                      <a:pt x="272" y="0"/>
                    </a:moveTo>
                    <a:lnTo>
                      <a:pt x="0" y="103"/>
                    </a:lnTo>
                    <a:lnTo>
                      <a:pt x="136" y="103"/>
                    </a:lnTo>
                    <a:lnTo>
                      <a:pt x="136" y="410"/>
                    </a:lnTo>
                    <a:lnTo>
                      <a:pt x="0" y="410"/>
                    </a:lnTo>
                    <a:lnTo>
                      <a:pt x="272" y="513"/>
                    </a:lnTo>
                    <a:lnTo>
                      <a:pt x="545" y="410"/>
                    </a:lnTo>
                    <a:lnTo>
                      <a:pt x="408" y="410"/>
                    </a:lnTo>
                    <a:lnTo>
                      <a:pt x="408" y="103"/>
                    </a:lnTo>
                    <a:lnTo>
                      <a:pt x="545" y="103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9c7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236760" y="2637000"/>
              <a:ext cx="277200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46160" y="2719440"/>
              <a:ext cx="758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Virtual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92920" y="3041640"/>
              <a:ext cx="950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00560" y="4265640"/>
              <a:ext cx="27716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82760" y="4348080"/>
              <a:ext cx="915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19640" y="4670280"/>
              <a:ext cx="1017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2584440" y="4141800"/>
              <a:ext cx="1154160" cy="1101600"/>
              <a:chOff x="2584440" y="4141800"/>
              <a:chExt cx="1154160" cy="1101600"/>
            </a:xfrm>
          </p:grpSpPr>
          <p:sp>
            <p:nvSpPr>
              <p:cNvPr id="210" name=""/>
              <p:cNvSpPr/>
              <p:nvPr/>
            </p:nvSpPr>
            <p:spPr>
              <a:xfrm>
                <a:off x="2584440" y="4141800"/>
                <a:ext cx="720720" cy="450720"/>
              </a:xfrm>
              <a:custGeom>
                <a:avLst/>
                <a:gdLst/>
                <a:ahLst/>
                <a:rect l="l" t="t" r="r" b="b"/>
                <a:pathLst>
                  <a:path w="454" h="284">
                    <a:moveTo>
                      <a:pt x="272" y="181"/>
                    </a:moveTo>
                    <a:lnTo>
                      <a:pt x="0" y="284"/>
                    </a:lnTo>
                    <a:lnTo>
                      <a:pt x="182" y="102"/>
                    </a:lnTo>
                    <a:lnTo>
                      <a:pt x="454" y="0"/>
                    </a:lnTo>
                    <a:lnTo>
                      <a:pt x="272" y="181"/>
                    </a:lnTo>
                    <a:close/>
                  </a:path>
                </a:pathLst>
              </a:custGeom>
              <a:solidFill>
                <a:srgbClr val="8d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84440" y="4792680"/>
                <a:ext cx="506520" cy="287280"/>
              </a:xfrm>
              <a:custGeom>
                <a:avLst/>
                <a:gdLst/>
                <a:ahLst/>
                <a:rect l="l" t="t" r="r" b="b"/>
                <a:pathLst>
                  <a:path w="319" h="181">
                    <a:moveTo>
                      <a:pt x="137" y="181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319" y="0"/>
                    </a:lnTo>
                    <a:lnTo>
                      <a:pt x="137" y="181"/>
                    </a:lnTo>
                    <a:close/>
                  </a:path>
                </a:pathLst>
              </a:custGeom>
              <a:solidFill>
                <a:srgbClr val="795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233880" y="4792680"/>
                <a:ext cx="504720" cy="28728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137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318" y="0"/>
                    </a:lnTo>
                    <a:lnTo>
                      <a:pt x="137" y="181"/>
                    </a:lnTo>
                    <a:close/>
                  </a:path>
                </a:pathLst>
              </a:custGeom>
              <a:solidFill>
                <a:srgbClr val="795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33880" y="4303800"/>
                <a:ext cx="287280" cy="776160"/>
              </a:xfrm>
              <a:custGeom>
                <a:avLst/>
                <a:gdLst/>
                <a:ahLst/>
                <a:rect l="l" t="t" r="r" b="b"/>
                <a:pathLst>
                  <a:path w="181" h="489">
                    <a:moveTo>
                      <a:pt x="0" y="489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1" y="30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b38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016080" y="4141800"/>
                <a:ext cx="722520" cy="450720"/>
              </a:xfrm>
              <a:custGeom>
                <a:avLst/>
                <a:gdLst/>
                <a:ahLst/>
                <a:rect l="l" t="t" r="r" b="b"/>
                <a:pathLst>
                  <a:path w="455" h="284">
                    <a:moveTo>
                      <a:pt x="274" y="284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455" y="102"/>
                    </a:lnTo>
                    <a:lnTo>
                      <a:pt x="274" y="284"/>
                    </a:lnTo>
                    <a:close/>
                  </a:path>
                </a:pathLst>
              </a:custGeom>
              <a:solidFill>
                <a:srgbClr val="8d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84440" y="4429080"/>
                <a:ext cx="866880" cy="814320"/>
              </a:xfrm>
              <a:custGeom>
                <a:avLst/>
                <a:gdLst/>
                <a:ahLst/>
                <a:rect l="l" t="t" r="r" b="b"/>
                <a:pathLst>
                  <a:path w="546" h="513">
                    <a:moveTo>
                      <a:pt x="272" y="0"/>
                    </a:moveTo>
                    <a:lnTo>
                      <a:pt x="0" y="103"/>
                    </a:lnTo>
                    <a:lnTo>
                      <a:pt x="137" y="103"/>
                    </a:lnTo>
                    <a:lnTo>
                      <a:pt x="137" y="410"/>
                    </a:lnTo>
                    <a:lnTo>
                      <a:pt x="0" y="410"/>
                    </a:lnTo>
                    <a:lnTo>
                      <a:pt x="272" y="513"/>
                    </a:lnTo>
                    <a:lnTo>
                      <a:pt x="546" y="410"/>
                    </a:lnTo>
                    <a:lnTo>
                      <a:pt x="409" y="410"/>
                    </a:lnTo>
                    <a:lnTo>
                      <a:pt x="409" y="103"/>
                    </a:lnTo>
                    <a:lnTo>
                      <a:pt x="546" y="103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9c7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2259000" y="3327480"/>
              <a:ext cx="5011920" cy="1047600"/>
              <a:chOff x="2259000" y="3327480"/>
              <a:chExt cx="5011920" cy="1047600"/>
            </a:xfrm>
          </p:grpSpPr>
          <p:sp>
            <p:nvSpPr>
              <p:cNvPr id="217" name=""/>
              <p:cNvSpPr/>
              <p:nvPr/>
            </p:nvSpPr>
            <p:spPr>
              <a:xfrm>
                <a:off x="2335320" y="3327480"/>
                <a:ext cx="306360" cy="290520"/>
              </a:xfrm>
              <a:custGeom>
                <a:avLst/>
                <a:gdLst/>
                <a:ahLst/>
                <a:rect l="l" t="t" r="r" b="b"/>
                <a:pathLst>
                  <a:path w="193" h="183">
                    <a:moveTo>
                      <a:pt x="12" y="181"/>
                    </a:moveTo>
                    <a:lnTo>
                      <a:pt x="0" y="183"/>
                    </a:lnTo>
                    <a:lnTo>
                      <a:pt x="181" y="1"/>
                    </a:lnTo>
                    <a:lnTo>
                      <a:pt x="193" y="0"/>
                    </a:lnTo>
                    <a:lnTo>
                      <a:pt x="12" y="181"/>
                    </a:lnTo>
                    <a:close/>
                  </a:path>
                </a:pathLst>
              </a:custGeom>
              <a:solidFill>
                <a:srgbClr val="9f0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346480" y="3327480"/>
                <a:ext cx="295200" cy="287280"/>
              </a:xfrm>
              <a:custGeom>
                <a:avLst/>
                <a:gdLst/>
                <a:ahLst/>
                <a:rect l="l" t="t" r="r" b="b"/>
                <a:pathLst>
                  <a:path w="186" h="181">
                    <a:moveTo>
                      <a:pt x="5" y="181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6" y="0"/>
                    </a:lnTo>
                    <a:lnTo>
                      <a:pt x="5" y="181"/>
                    </a:lnTo>
                    <a:close/>
                  </a:path>
                </a:pathLst>
              </a:custGeom>
              <a:solidFill>
                <a:srgbClr val="9f0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41440" y="3327480"/>
                <a:ext cx="295560" cy="290520"/>
              </a:xfrm>
              <a:custGeom>
                <a:avLst/>
                <a:gdLst/>
                <a:ahLst/>
                <a:rect l="l" t="t" r="r" b="b"/>
                <a:pathLst>
                  <a:path w="186" h="183">
                    <a:moveTo>
                      <a:pt x="3" y="181"/>
                    </a:moveTo>
                    <a:lnTo>
                      <a:pt x="0" y="183"/>
                    </a:lnTo>
                    <a:lnTo>
                      <a:pt x="181" y="1"/>
                    </a:lnTo>
                    <a:lnTo>
                      <a:pt x="186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a1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335320" y="3328920"/>
                <a:ext cx="293760" cy="28908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a300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16240" y="3328920"/>
                <a:ext cx="306360" cy="293760"/>
              </a:xfrm>
              <a:custGeom>
                <a:avLst/>
                <a:gdLst/>
                <a:ahLst/>
                <a:rect l="l" t="t" r="r" b="b"/>
                <a:pathLst>
                  <a:path w="193" h="185">
                    <a:moveTo>
                      <a:pt x="12" y="182"/>
                    </a:moveTo>
                    <a:lnTo>
                      <a:pt x="0" y="185"/>
                    </a:lnTo>
                    <a:lnTo>
                      <a:pt x="181" y="4"/>
                    </a:lnTo>
                    <a:lnTo>
                      <a:pt x="193" y="0"/>
                    </a:lnTo>
                    <a:lnTo>
                      <a:pt x="12" y="182"/>
                    </a:lnTo>
                    <a:close/>
                  </a:path>
                </a:pathLst>
              </a:custGeom>
              <a:solidFill>
                <a:srgbClr val="a60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24160" y="3328920"/>
                <a:ext cx="298440" cy="290520"/>
              </a:xfrm>
              <a:custGeom>
                <a:avLst/>
                <a:gdLst/>
                <a:ahLst/>
                <a:rect l="l" t="t" r="r" b="b"/>
                <a:pathLst>
                  <a:path w="188" h="183">
                    <a:moveTo>
                      <a:pt x="7" y="182"/>
                    </a:moveTo>
                    <a:lnTo>
                      <a:pt x="0" y="183"/>
                    </a:lnTo>
                    <a:lnTo>
                      <a:pt x="183" y="2"/>
                    </a:lnTo>
                    <a:lnTo>
                      <a:pt x="188" y="0"/>
                    </a:lnTo>
                    <a:lnTo>
                      <a:pt x="7" y="182"/>
                    </a:lnTo>
                    <a:close/>
                  </a:path>
                </a:pathLst>
              </a:custGeom>
              <a:solidFill>
                <a:srgbClr val="a60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316240" y="3332160"/>
                <a:ext cx="298440" cy="290520"/>
              </a:xfrm>
              <a:custGeom>
                <a:avLst/>
                <a:gdLst/>
                <a:ahLst/>
                <a:rect l="l" t="t" r="r" b="b"/>
                <a:pathLst>
                  <a:path w="188" h="183">
                    <a:moveTo>
                      <a:pt x="5" y="181"/>
                    </a:moveTo>
                    <a:lnTo>
                      <a:pt x="0" y="183"/>
                    </a:lnTo>
                    <a:lnTo>
                      <a:pt x="181" y="2"/>
                    </a:lnTo>
                    <a:lnTo>
                      <a:pt x="188" y="0"/>
                    </a:lnTo>
                    <a:lnTo>
                      <a:pt x="5" y="181"/>
                    </a:lnTo>
                    <a:close/>
                  </a:path>
                </a:pathLst>
              </a:custGeom>
              <a:solidFill>
                <a:srgbClr val="ac0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300400" y="3335400"/>
                <a:ext cx="303120" cy="295200"/>
              </a:xfrm>
              <a:custGeom>
                <a:avLst/>
                <a:gdLst/>
                <a:ahLst/>
                <a:rect l="l" t="t" r="r" b="b"/>
                <a:pathLst>
                  <a:path w="191" h="186">
                    <a:moveTo>
                      <a:pt x="10" y="181"/>
                    </a:moveTo>
                    <a:lnTo>
                      <a:pt x="0" y="186"/>
                    </a:lnTo>
                    <a:lnTo>
                      <a:pt x="181" y="5"/>
                    </a:lnTo>
                    <a:lnTo>
                      <a:pt x="191" y="0"/>
                    </a:lnTo>
                    <a:lnTo>
                      <a:pt x="10" y="181"/>
                    </a:lnTo>
                    <a:close/>
                  </a:path>
                </a:pathLst>
              </a:custGeom>
              <a:solidFill>
                <a:srgbClr val="b3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86000" y="3343320"/>
                <a:ext cx="301680" cy="2984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9" y="181"/>
                    </a:moveTo>
                    <a:lnTo>
                      <a:pt x="0" y="188"/>
                    </a:lnTo>
                    <a:lnTo>
                      <a:pt x="182" y="7"/>
                    </a:lnTo>
                    <a:lnTo>
                      <a:pt x="190" y="0"/>
                    </a:lnTo>
                    <a:lnTo>
                      <a:pt x="9" y="181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956280" y="4046400"/>
                <a:ext cx="298440" cy="301680"/>
              </a:xfrm>
              <a:custGeom>
                <a:avLst/>
                <a:gdLst/>
                <a:ahLst/>
                <a:rect l="l" t="t" r="r" b="b"/>
                <a:pathLst>
                  <a:path w="188" h="190">
                    <a:moveTo>
                      <a:pt x="0" y="190"/>
                    </a:moveTo>
                    <a:lnTo>
                      <a:pt x="7" y="181"/>
                    </a:lnTo>
                    <a:lnTo>
                      <a:pt x="188" y="0"/>
                    </a:lnTo>
                    <a:lnTo>
                      <a:pt x="181" y="8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cb00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967440" y="4030560"/>
                <a:ext cx="295200" cy="303480"/>
              </a:xfrm>
              <a:custGeom>
                <a:avLst/>
                <a:gdLst/>
                <a:ahLst/>
                <a:rect l="l" t="t" r="r" b="b"/>
                <a:pathLst>
                  <a:path w="186" h="191">
                    <a:moveTo>
                      <a:pt x="0" y="191"/>
                    </a:moveTo>
                    <a:lnTo>
                      <a:pt x="5" y="181"/>
                    </a:lnTo>
                    <a:lnTo>
                      <a:pt x="186" y="0"/>
                    </a:lnTo>
                    <a:lnTo>
                      <a:pt x="181" y="1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d30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75360" y="4011480"/>
                <a:ext cx="292320" cy="306360"/>
              </a:xfrm>
              <a:custGeom>
                <a:avLst/>
                <a:gdLst/>
                <a:ahLst/>
                <a:rect l="l" t="t" r="r" b="b"/>
                <a:pathLst>
                  <a:path w="184" h="193">
                    <a:moveTo>
                      <a:pt x="0" y="193"/>
                    </a:moveTo>
                    <a:lnTo>
                      <a:pt x="3" y="181"/>
                    </a:lnTo>
                    <a:lnTo>
                      <a:pt x="184" y="0"/>
                    </a:lnTo>
                    <a:lnTo>
                      <a:pt x="181" y="12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da00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75360" y="401940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1" y="183"/>
                    </a:lnTo>
                    <a:lnTo>
                      <a:pt x="183" y="0"/>
                    </a:lnTo>
                    <a:lnTo>
                      <a:pt x="181" y="7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a00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977160" y="401148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2" y="5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c0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980400" y="3992400"/>
                <a:ext cx="290520" cy="306720"/>
              </a:xfrm>
              <a:custGeom>
                <a:avLst/>
                <a:gdLst/>
                <a:ahLst/>
                <a:rect l="l" t="t" r="r" b="b"/>
                <a:pathLst>
                  <a:path w="183" h="193">
                    <a:moveTo>
                      <a:pt x="0" y="193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1" y="12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de0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80400" y="4002120"/>
                <a:ext cx="290520" cy="29700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0" y="187"/>
                    </a:moveTo>
                    <a:lnTo>
                      <a:pt x="0" y="182"/>
                    </a:lnTo>
                    <a:lnTo>
                      <a:pt x="183" y="0"/>
                    </a:lnTo>
                    <a:lnTo>
                      <a:pt x="181" y="6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e0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80400" y="399240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83280" y="3422520"/>
                <a:ext cx="287640" cy="857520"/>
              </a:xfrm>
              <a:custGeom>
                <a:avLst/>
                <a:gdLst/>
                <a:ahLst/>
                <a:rect l="l" t="t" r="r" b="b"/>
                <a:pathLst>
                  <a:path w="181" h="540">
                    <a:moveTo>
                      <a:pt x="0" y="540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1" y="359"/>
                    </a:lnTo>
                    <a:lnTo>
                      <a:pt x="0" y="540"/>
                    </a:lnTo>
                    <a:close/>
                  </a:path>
                </a:pathLst>
              </a:custGeom>
              <a:solidFill>
                <a:srgbClr val="e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80400" y="3403440"/>
                <a:ext cx="290520" cy="306720"/>
              </a:xfrm>
              <a:custGeom>
                <a:avLst/>
                <a:gdLst/>
                <a:ahLst/>
                <a:rect l="l" t="t" r="r" b="b"/>
                <a:pathLst>
                  <a:path w="183" h="193">
                    <a:moveTo>
                      <a:pt x="2" y="19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12"/>
                    </a:lnTo>
                    <a:lnTo>
                      <a:pt x="2" y="193"/>
                    </a:lnTo>
                    <a:close/>
                  </a:path>
                </a:pathLst>
              </a:custGeom>
              <a:solidFill>
                <a:srgbClr val="e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0400" y="3413160"/>
                <a:ext cx="290520" cy="29700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2" y="187"/>
                    </a:moveTo>
                    <a:lnTo>
                      <a:pt x="0" y="182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2" y="187"/>
                    </a:lnTo>
                    <a:close/>
                  </a:path>
                </a:pathLst>
              </a:custGeom>
              <a:solidFill>
                <a:srgbClr val="e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980400" y="340344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6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975360" y="3384720"/>
                <a:ext cx="292320" cy="306360"/>
              </a:xfrm>
              <a:custGeom>
                <a:avLst/>
                <a:gdLst/>
                <a:ahLst/>
                <a:rect l="l" t="t" r="r" b="b"/>
                <a:pathLst>
                  <a:path w="184" h="193">
                    <a:moveTo>
                      <a:pt x="3" y="193"/>
                    </a:moveTo>
                    <a:lnTo>
                      <a:pt x="0" y="183"/>
                    </a:lnTo>
                    <a:lnTo>
                      <a:pt x="181" y="0"/>
                    </a:lnTo>
                    <a:lnTo>
                      <a:pt x="184" y="12"/>
                    </a:lnTo>
                    <a:lnTo>
                      <a:pt x="3" y="193"/>
                    </a:lnTo>
                    <a:close/>
                  </a:path>
                </a:pathLst>
              </a:custGeom>
              <a:solidFill>
                <a:srgbClr val="de0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980400" y="3397320"/>
                <a:ext cx="287280" cy="29376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0" y="185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1" y="4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de0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77160" y="339408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dd0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977160" y="3389400"/>
                <a:ext cx="288720" cy="293760"/>
              </a:xfrm>
              <a:custGeom>
                <a:avLst/>
                <a:gdLst/>
                <a:ahLst/>
                <a:rect l="l" t="t" r="r" b="b"/>
                <a:pathLst>
                  <a:path w="182" h="185">
                    <a:moveTo>
                      <a:pt x="0" y="185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2" y="3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dc0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975360" y="3384720"/>
                <a:ext cx="290520" cy="29196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" y="184"/>
                    </a:moveTo>
                    <a:lnTo>
                      <a:pt x="0" y="183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db00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967440" y="3370320"/>
                <a:ext cx="295200" cy="304920"/>
              </a:xfrm>
              <a:custGeom>
                <a:avLst/>
                <a:gdLst/>
                <a:ahLst/>
                <a:rect l="l" t="t" r="r" b="b"/>
                <a:pathLst>
                  <a:path w="186" h="192">
                    <a:moveTo>
                      <a:pt x="5" y="192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6" y="9"/>
                    </a:lnTo>
                    <a:lnTo>
                      <a:pt x="5" y="192"/>
                    </a:lnTo>
                    <a:close/>
                  </a:path>
                </a:pathLst>
              </a:custGeom>
              <a:solidFill>
                <a:srgbClr val="da00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972480" y="3381480"/>
                <a:ext cx="290160" cy="293760"/>
              </a:xfrm>
              <a:custGeom>
                <a:avLst/>
                <a:gdLst/>
                <a:ahLst/>
                <a:rect l="l" t="t" r="r" b="b"/>
                <a:pathLst>
                  <a:path w="183" h="185">
                    <a:moveTo>
                      <a:pt x="2" y="185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5"/>
                    </a:lnTo>
                    <a:close/>
                  </a:path>
                </a:pathLst>
              </a:custGeom>
              <a:solidFill>
                <a:srgbClr val="da00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969240" y="337824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d8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969240" y="3373560"/>
                <a:ext cx="290520" cy="29196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0" y="184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3" y="3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60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967440" y="337032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1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d40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956280" y="3354480"/>
                <a:ext cx="298440" cy="303120"/>
              </a:xfrm>
              <a:custGeom>
                <a:avLst/>
                <a:gdLst/>
                <a:ahLst/>
                <a:rect l="l" t="t" r="r" b="b"/>
                <a:pathLst>
                  <a:path w="188" h="191">
                    <a:moveTo>
                      <a:pt x="7" y="19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8" y="10"/>
                    </a:lnTo>
                    <a:lnTo>
                      <a:pt x="7" y="191"/>
                    </a:lnTo>
                    <a:close/>
                  </a:path>
                </a:pathLst>
              </a:custGeom>
              <a:solidFill>
                <a:srgbClr val="d30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964200" y="3365640"/>
                <a:ext cx="290520" cy="29196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2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d30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961320" y="336240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d10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958080" y="335916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cf0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56280" y="3354480"/>
                <a:ext cx="290520" cy="29196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cd0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40440" y="3343320"/>
                <a:ext cx="303480" cy="298440"/>
              </a:xfrm>
              <a:custGeom>
                <a:avLst/>
                <a:gdLst/>
                <a:ahLst/>
                <a:rect l="l" t="t" r="r" b="b"/>
                <a:pathLst>
                  <a:path w="191" h="188">
                    <a:moveTo>
                      <a:pt x="10" y="188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91" y="7"/>
                    </a:lnTo>
                    <a:lnTo>
                      <a:pt x="10" y="188"/>
                    </a:lnTo>
                    <a:close/>
                  </a:path>
                </a:pathLst>
              </a:custGeom>
              <a:solidFill>
                <a:srgbClr val="cb00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950160" y="335124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cb00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948360" y="334800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1" y="183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c80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45480" y="334656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1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c50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40440" y="3343320"/>
                <a:ext cx="292320" cy="29052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3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4" y="2"/>
                    </a:lnTo>
                    <a:lnTo>
                      <a:pt x="3" y="183"/>
                    </a:lnTo>
                    <a:close/>
                  </a:path>
                </a:pathLst>
              </a:custGeom>
              <a:solidFill>
                <a:srgbClr val="c200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23160" y="3335400"/>
                <a:ext cx="304560" cy="295200"/>
              </a:xfrm>
              <a:custGeom>
                <a:avLst/>
                <a:gdLst/>
                <a:ahLst/>
                <a:rect l="l" t="t" r="r" b="b"/>
                <a:pathLst>
                  <a:path w="192" h="186">
                    <a:moveTo>
                      <a:pt x="11" y="186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92" y="5"/>
                    </a:lnTo>
                    <a:lnTo>
                      <a:pt x="11" y="186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7200" y="334008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31080" y="3338640"/>
                <a:ext cx="293760" cy="28872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5" y="1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bc0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29280" y="3338640"/>
                <a:ext cx="290520" cy="288720"/>
              </a:xfrm>
              <a:custGeom>
                <a:avLst/>
                <a:gdLst/>
                <a:ahLst/>
                <a:rect l="l" t="t" r="r" b="b"/>
                <a:pathLst>
                  <a:path w="183" h="182">
                    <a:moveTo>
                      <a:pt x="1" y="182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0"/>
                    </a:lnTo>
                    <a:lnTo>
                      <a:pt x="1" y="182"/>
                    </a:lnTo>
                    <a:close/>
                  </a:path>
                </a:pathLst>
              </a:custGeom>
              <a:solidFill>
                <a:srgbClr val="b900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923160" y="333540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b60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07320" y="3328920"/>
                <a:ext cx="306360" cy="293760"/>
              </a:xfrm>
              <a:custGeom>
                <a:avLst/>
                <a:gdLst/>
                <a:ahLst/>
                <a:rect l="l" t="t" r="r" b="b"/>
                <a:pathLst>
                  <a:path w="193" h="185">
                    <a:moveTo>
                      <a:pt x="10" y="185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93" y="4"/>
                    </a:lnTo>
                    <a:lnTo>
                      <a:pt x="10" y="185"/>
                    </a:lnTo>
                    <a:close/>
                  </a:path>
                </a:pathLst>
              </a:custGeom>
              <a:solidFill>
                <a:srgbClr val="b3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921360" y="3332160"/>
                <a:ext cx="292320" cy="29052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1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4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b3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915240" y="3332160"/>
                <a:ext cx="293760" cy="287280"/>
              </a:xfrm>
              <a:custGeom>
                <a:avLst/>
                <a:gdLst/>
                <a:ahLst/>
                <a:rect l="l" t="t" r="r" b="b"/>
                <a:pathLst>
                  <a:path w="185" h="181">
                    <a:moveTo>
                      <a:pt x="4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4" y="181"/>
                    </a:lnTo>
                    <a:close/>
                  </a:path>
                </a:pathLst>
              </a:custGeom>
              <a:solidFill>
                <a:srgbClr val="af0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912000" y="332892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ac0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907320" y="3328920"/>
                <a:ext cx="293760" cy="28908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3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2"/>
                    </a:lnTo>
                    <a:close/>
                  </a:path>
                </a:pathLst>
              </a:custGeom>
              <a:solidFill>
                <a:srgbClr val="a90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888240" y="3327480"/>
                <a:ext cx="306360" cy="290520"/>
              </a:xfrm>
              <a:custGeom>
                <a:avLst/>
                <a:gdLst/>
                <a:ahLst/>
                <a:rect l="l" t="t" r="r" b="b"/>
                <a:pathLst>
                  <a:path w="193" h="183">
                    <a:moveTo>
                      <a:pt x="1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93" y="1"/>
                    </a:lnTo>
                    <a:lnTo>
                      <a:pt x="12" y="183"/>
                    </a:lnTo>
                    <a:close/>
                  </a:path>
                </a:pathLst>
              </a:custGeom>
              <a:solidFill>
                <a:srgbClr val="a60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902280" y="3328920"/>
                <a:ext cx="292320" cy="289080"/>
              </a:xfrm>
              <a:custGeom>
                <a:avLst/>
                <a:gdLst/>
                <a:ahLst/>
                <a:rect l="l" t="t" r="r" b="b"/>
                <a:pathLst>
                  <a:path w="184" h="182">
                    <a:moveTo>
                      <a:pt x="3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4" y="0"/>
                    </a:lnTo>
                    <a:lnTo>
                      <a:pt x="3" y="182"/>
                    </a:lnTo>
                    <a:close/>
                  </a:path>
                </a:pathLst>
              </a:custGeom>
              <a:solidFill>
                <a:srgbClr val="a60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92920" y="3327480"/>
                <a:ext cx="297000" cy="290520"/>
              </a:xfrm>
              <a:custGeom>
                <a:avLst/>
                <a:gdLst/>
                <a:ahLst/>
                <a:rect l="l" t="t" r="r" b="b"/>
                <a:pathLst>
                  <a:path w="187" h="183">
                    <a:moveTo>
                      <a:pt x="6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7" y="1"/>
                    </a:lnTo>
                    <a:lnTo>
                      <a:pt x="6" y="183"/>
                    </a:lnTo>
                    <a:close/>
                  </a:path>
                </a:pathLst>
              </a:custGeom>
              <a:solidFill>
                <a:srgbClr val="a1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88240" y="3327480"/>
                <a:ext cx="293760" cy="287280"/>
              </a:xfrm>
              <a:custGeom>
                <a:avLst/>
                <a:gdLst/>
                <a:ahLst/>
                <a:rect l="l" t="t" r="r" b="b"/>
                <a:pathLst>
                  <a:path w="185" h="181">
                    <a:moveTo>
                      <a:pt x="3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9c0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54400" y="3327480"/>
                <a:ext cx="4821120" cy="287280"/>
              </a:xfrm>
              <a:custGeom>
                <a:avLst/>
                <a:gdLst/>
                <a:ahLst/>
                <a:rect l="l" t="t" r="r" b="b"/>
                <a:pathLst>
                  <a:path w="3037" h="181">
                    <a:moveTo>
                      <a:pt x="2856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3037" y="0"/>
                    </a:lnTo>
                    <a:lnTo>
                      <a:pt x="2856" y="181"/>
                    </a:lnTo>
                    <a:close/>
                  </a:path>
                </a:pathLst>
              </a:custGeom>
              <a:solidFill>
                <a:srgbClr val="970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59000" y="3614760"/>
                <a:ext cx="4724280" cy="760320"/>
              </a:xfrm>
              <a:custGeom>
                <a:avLst/>
                <a:gdLst/>
                <a:ahLst/>
                <a:rect l="l" t="t" r="r" b="b"/>
                <a:pathLst>
                  <a:path w="2976" h="479">
                    <a:moveTo>
                      <a:pt x="60" y="0"/>
                    </a:moveTo>
                    <a:lnTo>
                      <a:pt x="48" y="2"/>
                    </a:lnTo>
                    <a:lnTo>
                      <a:pt x="36" y="5"/>
                    </a:lnTo>
                    <a:lnTo>
                      <a:pt x="26" y="10"/>
                    </a:lnTo>
                    <a:lnTo>
                      <a:pt x="17" y="17"/>
                    </a:lnTo>
                    <a:lnTo>
                      <a:pt x="11" y="27"/>
                    </a:lnTo>
                    <a:lnTo>
                      <a:pt x="5" y="38"/>
                    </a:lnTo>
                    <a:lnTo>
                      <a:pt x="2" y="48"/>
                    </a:lnTo>
                    <a:lnTo>
                      <a:pt x="0" y="60"/>
                    </a:lnTo>
                    <a:lnTo>
                      <a:pt x="0" y="419"/>
                    </a:lnTo>
                    <a:lnTo>
                      <a:pt x="2" y="431"/>
                    </a:lnTo>
                    <a:lnTo>
                      <a:pt x="5" y="443"/>
                    </a:lnTo>
                    <a:lnTo>
                      <a:pt x="11" y="453"/>
                    </a:lnTo>
                    <a:lnTo>
                      <a:pt x="17" y="462"/>
                    </a:lnTo>
                    <a:lnTo>
                      <a:pt x="26" y="468"/>
                    </a:lnTo>
                    <a:lnTo>
                      <a:pt x="36" y="474"/>
                    </a:lnTo>
                    <a:lnTo>
                      <a:pt x="48" y="477"/>
                    </a:lnTo>
                    <a:lnTo>
                      <a:pt x="60" y="479"/>
                    </a:lnTo>
                    <a:lnTo>
                      <a:pt x="2916" y="479"/>
                    </a:lnTo>
                    <a:lnTo>
                      <a:pt x="2928" y="477"/>
                    </a:lnTo>
                    <a:lnTo>
                      <a:pt x="2938" y="474"/>
                    </a:lnTo>
                    <a:lnTo>
                      <a:pt x="2949" y="468"/>
                    </a:lnTo>
                    <a:lnTo>
                      <a:pt x="2959" y="462"/>
                    </a:lnTo>
                    <a:lnTo>
                      <a:pt x="2966" y="453"/>
                    </a:lnTo>
                    <a:lnTo>
                      <a:pt x="2971" y="443"/>
                    </a:lnTo>
                    <a:lnTo>
                      <a:pt x="2974" y="431"/>
                    </a:lnTo>
                    <a:lnTo>
                      <a:pt x="2976" y="419"/>
                    </a:lnTo>
                    <a:lnTo>
                      <a:pt x="2976" y="60"/>
                    </a:lnTo>
                    <a:lnTo>
                      <a:pt x="2974" y="48"/>
                    </a:lnTo>
                    <a:lnTo>
                      <a:pt x="2971" y="38"/>
                    </a:lnTo>
                    <a:lnTo>
                      <a:pt x="2966" y="27"/>
                    </a:lnTo>
                    <a:lnTo>
                      <a:pt x="2959" y="17"/>
                    </a:lnTo>
                    <a:lnTo>
                      <a:pt x="2949" y="10"/>
                    </a:lnTo>
                    <a:lnTo>
                      <a:pt x="2938" y="5"/>
                    </a:lnTo>
                    <a:lnTo>
                      <a:pt x="2928" y="2"/>
                    </a:lnTo>
                    <a:lnTo>
                      <a:pt x="2916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c300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815280" y="3740040"/>
              <a:ext cx="1233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S Co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2584440" y="2513160"/>
              <a:ext cx="1154160" cy="1101600"/>
              <a:chOff x="2584440" y="2513160"/>
              <a:chExt cx="1154160" cy="1101600"/>
            </a:xfrm>
          </p:grpSpPr>
          <p:sp>
            <p:nvSpPr>
              <p:cNvPr id="276" name=""/>
              <p:cNvSpPr/>
              <p:nvPr/>
            </p:nvSpPr>
            <p:spPr>
              <a:xfrm>
                <a:off x="2584440" y="2513160"/>
                <a:ext cx="720720" cy="450720"/>
              </a:xfrm>
              <a:custGeom>
                <a:avLst/>
                <a:gdLst/>
                <a:ahLst/>
                <a:rect l="l" t="t" r="r" b="b"/>
                <a:pathLst>
                  <a:path w="454" h="284">
                    <a:moveTo>
                      <a:pt x="272" y="181"/>
                    </a:moveTo>
                    <a:lnTo>
                      <a:pt x="0" y="284"/>
                    </a:lnTo>
                    <a:lnTo>
                      <a:pt x="182" y="102"/>
                    </a:lnTo>
                    <a:lnTo>
                      <a:pt x="454" y="0"/>
                    </a:lnTo>
                    <a:lnTo>
                      <a:pt x="272" y="181"/>
                    </a:lnTo>
                    <a:close/>
                  </a:path>
                </a:pathLst>
              </a:custGeom>
              <a:solidFill>
                <a:srgbClr val="8d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84440" y="3164040"/>
                <a:ext cx="506520" cy="287280"/>
              </a:xfrm>
              <a:custGeom>
                <a:avLst/>
                <a:gdLst/>
                <a:ahLst/>
                <a:rect l="l" t="t" r="r" b="b"/>
                <a:pathLst>
                  <a:path w="319" h="181">
                    <a:moveTo>
                      <a:pt x="137" y="181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319" y="0"/>
                    </a:lnTo>
                    <a:lnTo>
                      <a:pt x="137" y="181"/>
                    </a:lnTo>
                    <a:close/>
                  </a:path>
                </a:pathLst>
              </a:custGeom>
              <a:solidFill>
                <a:srgbClr val="795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33880" y="3164040"/>
                <a:ext cx="504720" cy="28728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137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318" y="0"/>
                    </a:lnTo>
                    <a:lnTo>
                      <a:pt x="137" y="181"/>
                    </a:lnTo>
                    <a:close/>
                  </a:path>
                </a:pathLst>
              </a:custGeom>
              <a:solidFill>
                <a:srgbClr val="795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33880" y="2674800"/>
                <a:ext cx="287280" cy="776520"/>
              </a:xfrm>
              <a:custGeom>
                <a:avLst/>
                <a:gdLst/>
                <a:ahLst/>
                <a:rect l="l" t="t" r="r" b="b"/>
                <a:pathLst>
                  <a:path w="181" h="489">
                    <a:moveTo>
                      <a:pt x="0" y="489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1" y="30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b38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16080" y="2513160"/>
                <a:ext cx="722520" cy="450720"/>
              </a:xfrm>
              <a:custGeom>
                <a:avLst/>
                <a:gdLst/>
                <a:ahLst/>
                <a:rect l="l" t="t" r="r" b="b"/>
                <a:pathLst>
                  <a:path w="455" h="284">
                    <a:moveTo>
                      <a:pt x="274" y="284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455" y="102"/>
                    </a:lnTo>
                    <a:lnTo>
                      <a:pt x="274" y="284"/>
                    </a:lnTo>
                    <a:close/>
                  </a:path>
                </a:pathLst>
              </a:custGeom>
              <a:solidFill>
                <a:srgbClr val="8d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84440" y="2800440"/>
                <a:ext cx="866880" cy="814320"/>
              </a:xfrm>
              <a:custGeom>
                <a:avLst/>
                <a:gdLst/>
                <a:ahLst/>
                <a:rect l="l" t="t" r="r" b="b"/>
                <a:pathLst>
                  <a:path w="546" h="513">
                    <a:moveTo>
                      <a:pt x="272" y="0"/>
                    </a:moveTo>
                    <a:lnTo>
                      <a:pt x="0" y="103"/>
                    </a:lnTo>
                    <a:lnTo>
                      <a:pt x="137" y="103"/>
                    </a:lnTo>
                    <a:lnTo>
                      <a:pt x="137" y="410"/>
                    </a:lnTo>
                    <a:lnTo>
                      <a:pt x="0" y="410"/>
                    </a:lnTo>
                    <a:lnTo>
                      <a:pt x="272" y="513"/>
                    </a:lnTo>
                    <a:lnTo>
                      <a:pt x="546" y="410"/>
                    </a:lnTo>
                    <a:lnTo>
                      <a:pt x="409" y="410"/>
                    </a:lnTo>
                    <a:lnTo>
                      <a:pt x="409" y="103"/>
                    </a:lnTo>
                    <a:lnTo>
                      <a:pt x="546" y="103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9c7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843520" y="2513160"/>
              <a:ext cx="1152720" cy="1101600"/>
              <a:chOff x="5843520" y="2513160"/>
              <a:chExt cx="1152720" cy="1101600"/>
            </a:xfrm>
          </p:grpSpPr>
          <p:sp>
            <p:nvSpPr>
              <p:cNvPr id="283" name=""/>
              <p:cNvSpPr/>
              <p:nvPr/>
            </p:nvSpPr>
            <p:spPr>
              <a:xfrm>
                <a:off x="5843520" y="2513160"/>
                <a:ext cx="719280" cy="450720"/>
              </a:xfrm>
              <a:custGeom>
                <a:avLst/>
                <a:gdLst/>
                <a:ahLst/>
                <a:rect l="l" t="t" r="r" b="b"/>
                <a:pathLst>
                  <a:path w="453" h="284">
                    <a:moveTo>
                      <a:pt x="272" y="181"/>
                    </a:moveTo>
                    <a:lnTo>
                      <a:pt x="0" y="284"/>
                    </a:lnTo>
                    <a:lnTo>
                      <a:pt x="181" y="102"/>
                    </a:lnTo>
                    <a:lnTo>
                      <a:pt x="453" y="0"/>
                    </a:lnTo>
                    <a:lnTo>
                      <a:pt x="272" y="181"/>
                    </a:lnTo>
                    <a:close/>
                  </a:path>
                </a:pathLst>
              </a:custGeom>
              <a:solidFill>
                <a:srgbClr val="8d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43520" y="3164040"/>
                <a:ext cx="504720" cy="28728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136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318" y="0"/>
                    </a:lnTo>
                    <a:lnTo>
                      <a:pt x="136" y="181"/>
                    </a:lnTo>
                    <a:close/>
                  </a:path>
                </a:pathLst>
              </a:custGeom>
              <a:solidFill>
                <a:srgbClr val="795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91160" y="3164040"/>
                <a:ext cx="505080" cy="28728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137" y="181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318" y="0"/>
                    </a:lnTo>
                    <a:lnTo>
                      <a:pt x="137" y="181"/>
                    </a:lnTo>
                    <a:close/>
                  </a:path>
                </a:pathLst>
              </a:custGeom>
              <a:solidFill>
                <a:srgbClr val="795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91160" y="2674800"/>
                <a:ext cx="289080" cy="776520"/>
              </a:xfrm>
              <a:custGeom>
                <a:avLst/>
                <a:gdLst/>
                <a:ahLst/>
                <a:rect l="l" t="t" r="r" b="b"/>
                <a:pathLst>
                  <a:path w="182" h="489">
                    <a:moveTo>
                      <a:pt x="0" y="489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2" y="30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b38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75520" y="2513160"/>
                <a:ext cx="720720" cy="450720"/>
              </a:xfrm>
              <a:custGeom>
                <a:avLst/>
                <a:gdLst/>
                <a:ahLst/>
                <a:rect l="l" t="t" r="r" b="b"/>
                <a:pathLst>
                  <a:path w="454" h="284">
                    <a:moveTo>
                      <a:pt x="273" y="2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454" y="102"/>
                    </a:lnTo>
                    <a:lnTo>
                      <a:pt x="273" y="284"/>
                    </a:lnTo>
                    <a:close/>
                  </a:path>
                </a:pathLst>
              </a:custGeom>
              <a:solidFill>
                <a:srgbClr val="8d6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43520" y="2800440"/>
                <a:ext cx="865080" cy="814320"/>
              </a:xfrm>
              <a:custGeom>
                <a:avLst/>
                <a:gdLst/>
                <a:ahLst/>
                <a:rect l="l" t="t" r="r" b="b"/>
                <a:pathLst>
                  <a:path w="545" h="513">
                    <a:moveTo>
                      <a:pt x="272" y="0"/>
                    </a:moveTo>
                    <a:lnTo>
                      <a:pt x="0" y="103"/>
                    </a:lnTo>
                    <a:lnTo>
                      <a:pt x="136" y="103"/>
                    </a:lnTo>
                    <a:lnTo>
                      <a:pt x="136" y="410"/>
                    </a:lnTo>
                    <a:lnTo>
                      <a:pt x="0" y="410"/>
                    </a:lnTo>
                    <a:lnTo>
                      <a:pt x="272" y="513"/>
                    </a:lnTo>
                    <a:lnTo>
                      <a:pt x="545" y="410"/>
                    </a:lnTo>
                    <a:lnTo>
                      <a:pt x="408" y="410"/>
                    </a:lnTo>
                    <a:lnTo>
                      <a:pt x="408" y="103"/>
                    </a:lnTo>
                    <a:lnTo>
                      <a:pt x="545" y="103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9c7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259000" y="1698480"/>
              <a:ext cx="2568600" cy="1047960"/>
              <a:chOff x="2259000" y="1698480"/>
              <a:chExt cx="2568600" cy="1047960"/>
            </a:xfrm>
          </p:grpSpPr>
          <p:sp>
            <p:nvSpPr>
              <p:cNvPr id="290" name=""/>
              <p:cNvSpPr/>
              <p:nvPr/>
            </p:nvSpPr>
            <p:spPr>
              <a:xfrm>
                <a:off x="2335320" y="1698480"/>
                <a:ext cx="306360" cy="290520"/>
              </a:xfrm>
              <a:custGeom>
                <a:avLst/>
                <a:gdLst/>
                <a:ahLst/>
                <a:rect l="l" t="t" r="r" b="b"/>
                <a:pathLst>
                  <a:path w="193" h="183">
                    <a:moveTo>
                      <a:pt x="12" y="181"/>
                    </a:moveTo>
                    <a:lnTo>
                      <a:pt x="0" y="183"/>
                    </a:lnTo>
                    <a:lnTo>
                      <a:pt x="181" y="1"/>
                    </a:lnTo>
                    <a:lnTo>
                      <a:pt x="193" y="0"/>
                    </a:lnTo>
                    <a:lnTo>
                      <a:pt x="12" y="181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346480" y="1698480"/>
                <a:ext cx="295200" cy="287640"/>
              </a:xfrm>
              <a:custGeom>
                <a:avLst/>
                <a:gdLst/>
                <a:ahLst/>
                <a:rect l="l" t="t" r="r" b="b"/>
                <a:pathLst>
                  <a:path w="186" h="181">
                    <a:moveTo>
                      <a:pt x="5" y="181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6" y="0"/>
                    </a:lnTo>
                    <a:lnTo>
                      <a:pt x="5" y="181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341440" y="1698480"/>
                <a:ext cx="295560" cy="290520"/>
              </a:xfrm>
              <a:custGeom>
                <a:avLst/>
                <a:gdLst/>
                <a:ahLst/>
                <a:rect l="l" t="t" r="r" b="b"/>
                <a:pathLst>
                  <a:path w="186" h="183">
                    <a:moveTo>
                      <a:pt x="3" y="181"/>
                    </a:moveTo>
                    <a:lnTo>
                      <a:pt x="0" y="183"/>
                    </a:lnTo>
                    <a:lnTo>
                      <a:pt x="181" y="1"/>
                    </a:lnTo>
                    <a:lnTo>
                      <a:pt x="186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8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335320" y="1700280"/>
                <a:ext cx="293760" cy="28872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8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316240" y="1700280"/>
                <a:ext cx="306360" cy="293760"/>
              </a:xfrm>
              <a:custGeom>
                <a:avLst/>
                <a:gdLst/>
                <a:ahLst/>
                <a:rect l="l" t="t" r="r" b="b"/>
                <a:pathLst>
                  <a:path w="193" h="185">
                    <a:moveTo>
                      <a:pt x="12" y="182"/>
                    </a:moveTo>
                    <a:lnTo>
                      <a:pt x="0" y="185"/>
                    </a:lnTo>
                    <a:lnTo>
                      <a:pt x="181" y="4"/>
                    </a:lnTo>
                    <a:lnTo>
                      <a:pt x="193" y="0"/>
                    </a:lnTo>
                    <a:lnTo>
                      <a:pt x="12" y="182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324160" y="1700280"/>
                <a:ext cx="298440" cy="290520"/>
              </a:xfrm>
              <a:custGeom>
                <a:avLst/>
                <a:gdLst/>
                <a:ahLst/>
                <a:rect l="l" t="t" r="r" b="b"/>
                <a:pathLst>
                  <a:path w="188" h="183">
                    <a:moveTo>
                      <a:pt x="7" y="182"/>
                    </a:moveTo>
                    <a:lnTo>
                      <a:pt x="0" y="183"/>
                    </a:lnTo>
                    <a:lnTo>
                      <a:pt x="183" y="2"/>
                    </a:lnTo>
                    <a:lnTo>
                      <a:pt x="188" y="0"/>
                    </a:lnTo>
                    <a:lnTo>
                      <a:pt x="7" y="182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316240" y="1703520"/>
                <a:ext cx="298440" cy="290520"/>
              </a:xfrm>
              <a:custGeom>
                <a:avLst/>
                <a:gdLst/>
                <a:ahLst/>
                <a:rect l="l" t="t" r="r" b="b"/>
                <a:pathLst>
                  <a:path w="188" h="183">
                    <a:moveTo>
                      <a:pt x="5" y="181"/>
                    </a:moveTo>
                    <a:lnTo>
                      <a:pt x="0" y="183"/>
                    </a:lnTo>
                    <a:lnTo>
                      <a:pt x="181" y="2"/>
                    </a:lnTo>
                    <a:lnTo>
                      <a:pt x="188" y="0"/>
                    </a:lnTo>
                    <a:lnTo>
                      <a:pt x="5" y="181"/>
                    </a:lnTo>
                    <a:close/>
                  </a:path>
                </a:pathLst>
              </a:custGeom>
              <a:solidFill>
                <a:srgbClr val="89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300400" y="1706400"/>
                <a:ext cx="303120" cy="295560"/>
              </a:xfrm>
              <a:custGeom>
                <a:avLst/>
                <a:gdLst/>
                <a:ahLst/>
                <a:rect l="l" t="t" r="r" b="b"/>
                <a:pathLst>
                  <a:path w="191" h="186">
                    <a:moveTo>
                      <a:pt x="10" y="181"/>
                    </a:moveTo>
                    <a:lnTo>
                      <a:pt x="0" y="186"/>
                    </a:lnTo>
                    <a:lnTo>
                      <a:pt x="181" y="5"/>
                    </a:lnTo>
                    <a:lnTo>
                      <a:pt x="191" y="0"/>
                    </a:lnTo>
                    <a:lnTo>
                      <a:pt x="10" y="181"/>
                    </a:lnTo>
                    <a:close/>
                  </a:path>
                </a:pathLst>
              </a:custGeom>
              <a:solidFill>
                <a:srgbClr val="8f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0" y="1714680"/>
                <a:ext cx="301680" cy="2984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9" y="181"/>
                    </a:moveTo>
                    <a:lnTo>
                      <a:pt x="0" y="188"/>
                    </a:lnTo>
                    <a:lnTo>
                      <a:pt x="182" y="7"/>
                    </a:lnTo>
                    <a:lnTo>
                      <a:pt x="190" y="0"/>
                    </a:lnTo>
                    <a:lnTo>
                      <a:pt x="9" y="181"/>
                    </a:lnTo>
                    <a:close/>
                  </a:path>
                </a:pathLst>
              </a:custGeom>
              <a:solidFill>
                <a:srgbClr val="9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13320" y="2417760"/>
                <a:ext cx="298440" cy="301680"/>
              </a:xfrm>
              <a:custGeom>
                <a:avLst/>
                <a:gdLst/>
                <a:ahLst/>
                <a:rect l="l" t="t" r="r" b="b"/>
                <a:pathLst>
                  <a:path w="188" h="190">
                    <a:moveTo>
                      <a:pt x="0" y="190"/>
                    </a:moveTo>
                    <a:lnTo>
                      <a:pt x="7" y="181"/>
                    </a:lnTo>
                    <a:lnTo>
                      <a:pt x="188" y="0"/>
                    </a:lnTo>
                    <a:lnTo>
                      <a:pt x="181" y="8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a2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524480" y="2401920"/>
                <a:ext cx="295200" cy="303120"/>
              </a:xfrm>
              <a:custGeom>
                <a:avLst/>
                <a:gdLst/>
                <a:ahLst/>
                <a:rect l="l" t="t" r="r" b="b"/>
                <a:pathLst>
                  <a:path w="186" h="191">
                    <a:moveTo>
                      <a:pt x="0" y="191"/>
                    </a:moveTo>
                    <a:lnTo>
                      <a:pt x="5" y="181"/>
                    </a:lnTo>
                    <a:lnTo>
                      <a:pt x="186" y="0"/>
                    </a:lnTo>
                    <a:lnTo>
                      <a:pt x="181" y="1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a9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32400" y="2382840"/>
                <a:ext cx="291960" cy="306360"/>
              </a:xfrm>
              <a:custGeom>
                <a:avLst/>
                <a:gdLst/>
                <a:ahLst/>
                <a:rect l="l" t="t" r="r" b="b"/>
                <a:pathLst>
                  <a:path w="184" h="193">
                    <a:moveTo>
                      <a:pt x="0" y="193"/>
                    </a:moveTo>
                    <a:lnTo>
                      <a:pt x="3" y="181"/>
                    </a:lnTo>
                    <a:lnTo>
                      <a:pt x="184" y="0"/>
                    </a:lnTo>
                    <a:lnTo>
                      <a:pt x="181" y="12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32400" y="239076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1" y="183"/>
                    </a:lnTo>
                    <a:lnTo>
                      <a:pt x="183" y="0"/>
                    </a:lnTo>
                    <a:lnTo>
                      <a:pt x="181" y="7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33840" y="238284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2" y="5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b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37080" y="2363760"/>
                <a:ext cx="290520" cy="306360"/>
              </a:xfrm>
              <a:custGeom>
                <a:avLst/>
                <a:gdLst/>
                <a:ahLst/>
                <a:rect l="l" t="t" r="r" b="b"/>
                <a:pathLst>
                  <a:path w="183" h="193">
                    <a:moveTo>
                      <a:pt x="0" y="193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1" y="12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b2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537080" y="2373480"/>
                <a:ext cx="290520" cy="2966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0" y="187"/>
                    </a:moveTo>
                    <a:lnTo>
                      <a:pt x="0" y="182"/>
                    </a:lnTo>
                    <a:lnTo>
                      <a:pt x="183" y="0"/>
                    </a:lnTo>
                    <a:lnTo>
                      <a:pt x="181" y="6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b2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37080" y="236376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40320" y="1793880"/>
                <a:ext cx="287280" cy="857160"/>
              </a:xfrm>
              <a:custGeom>
                <a:avLst/>
                <a:gdLst/>
                <a:ahLst/>
                <a:rect l="l" t="t" r="r" b="b"/>
                <a:pathLst>
                  <a:path w="181" h="540">
                    <a:moveTo>
                      <a:pt x="0" y="540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1" y="359"/>
                    </a:lnTo>
                    <a:lnTo>
                      <a:pt x="0" y="540"/>
                    </a:lnTo>
                    <a:close/>
                  </a:path>
                </a:pathLst>
              </a:custGeom>
              <a:solidFill>
                <a:srgbClr val="b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37080" y="1774800"/>
                <a:ext cx="290520" cy="306360"/>
              </a:xfrm>
              <a:custGeom>
                <a:avLst/>
                <a:gdLst/>
                <a:ahLst/>
                <a:rect l="l" t="t" r="r" b="b"/>
                <a:pathLst>
                  <a:path w="183" h="193">
                    <a:moveTo>
                      <a:pt x="2" y="19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12"/>
                    </a:lnTo>
                    <a:lnTo>
                      <a:pt x="2" y="193"/>
                    </a:lnTo>
                    <a:close/>
                  </a:path>
                </a:pathLst>
              </a:custGeom>
              <a:solidFill>
                <a:srgbClr val="b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537080" y="1784520"/>
                <a:ext cx="290520" cy="2966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2" y="187"/>
                    </a:moveTo>
                    <a:lnTo>
                      <a:pt x="0" y="182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2" y="187"/>
                    </a:lnTo>
                    <a:close/>
                  </a:path>
                </a:pathLst>
              </a:custGeom>
              <a:solidFill>
                <a:srgbClr val="b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537080" y="177480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6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532400" y="1755720"/>
                <a:ext cx="291960" cy="306360"/>
              </a:xfrm>
              <a:custGeom>
                <a:avLst/>
                <a:gdLst/>
                <a:ahLst/>
                <a:rect l="l" t="t" r="r" b="b"/>
                <a:pathLst>
                  <a:path w="184" h="193">
                    <a:moveTo>
                      <a:pt x="3" y="193"/>
                    </a:moveTo>
                    <a:lnTo>
                      <a:pt x="0" y="183"/>
                    </a:lnTo>
                    <a:lnTo>
                      <a:pt x="181" y="0"/>
                    </a:lnTo>
                    <a:lnTo>
                      <a:pt x="184" y="12"/>
                    </a:lnTo>
                    <a:lnTo>
                      <a:pt x="3" y="193"/>
                    </a:lnTo>
                    <a:close/>
                  </a:path>
                </a:pathLst>
              </a:custGeom>
              <a:solidFill>
                <a:srgbClr val="b2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537080" y="1768320"/>
                <a:ext cx="287280" cy="29376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0" y="185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1" y="4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2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33840" y="176544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b1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33840" y="1760400"/>
                <a:ext cx="289080" cy="293760"/>
              </a:xfrm>
              <a:custGeom>
                <a:avLst/>
                <a:gdLst/>
                <a:ahLst/>
                <a:rect l="l" t="t" r="r" b="b"/>
                <a:pathLst>
                  <a:path w="182" h="185">
                    <a:moveTo>
                      <a:pt x="0" y="185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2" y="3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32400" y="175572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" y="184"/>
                    </a:moveTo>
                    <a:lnTo>
                      <a:pt x="0" y="183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af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524480" y="1741320"/>
                <a:ext cx="295200" cy="304920"/>
              </a:xfrm>
              <a:custGeom>
                <a:avLst/>
                <a:gdLst/>
                <a:ahLst/>
                <a:rect l="l" t="t" r="r" b="b"/>
                <a:pathLst>
                  <a:path w="186" h="192">
                    <a:moveTo>
                      <a:pt x="5" y="192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6" y="9"/>
                    </a:lnTo>
                    <a:lnTo>
                      <a:pt x="5" y="192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29160" y="1752480"/>
                <a:ext cx="290520" cy="293760"/>
              </a:xfrm>
              <a:custGeom>
                <a:avLst/>
                <a:gdLst/>
                <a:ahLst/>
                <a:rect l="l" t="t" r="r" b="b"/>
                <a:pathLst>
                  <a:path w="183" h="185">
                    <a:moveTo>
                      <a:pt x="2" y="185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5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25920" y="1749600"/>
                <a:ext cx="290520" cy="29016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ac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25920" y="174456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0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b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24480" y="1741320"/>
                <a:ext cx="288720" cy="290520"/>
              </a:xfrm>
              <a:custGeom>
                <a:avLst/>
                <a:gdLst/>
                <a:ahLst/>
                <a:rect l="l" t="t" r="r" b="b"/>
                <a:pathLst>
                  <a:path w="182" h="183">
                    <a:moveTo>
                      <a:pt x="1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2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aa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13320" y="1725480"/>
                <a:ext cx="298440" cy="303480"/>
              </a:xfrm>
              <a:custGeom>
                <a:avLst/>
                <a:gdLst/>
                <a:ahLst/>
                <a:rect l="l" t="t" r="r" b="b"/>
                <a:pathLst>
                  <a:path w="188" h="191">
                    <a:moveTo>
                      <a:pt x="7" y="19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8" y="10"/>
                    </a:lnTo>
                    <a:lnTo>
                      <a:pt x="7" y="191"/>
                    </a:lnTo>
                    <a:close/>
                  </a:path>
                </a:pathLst>
              </a:custGeom>
              <a:solidFill>
                <a:srgbClr val="a9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21240" y="173664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2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a9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518000" y="173340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a7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514760" y="173052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a5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13320" y="172548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a3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95680" y="1714680"/>
                <a:ext cx="304920" cy="298440"/>
              </a:xfrm>
              <a:custGeom>
                <a:avLst/>
                <a:gdLst/>
                <a:ahLst/>
                <a:rect l="l" t="t" r="r" b="b"/>
                <a:pathLst>
                  <a:path w="192" h="188">
                    <a:moveTo>
                      <a:pt x="11" y="188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92" y="7"/>
                    </a:lnTo>
                    <a:lnTo>
                      <a:pt x="11" y="188"/>
                    </a:lnTo>
                    <a:close/>
                  </a:path>
                </a:pathLst>
              </a:custGeom>
              <a:solidFill>
                <a:srgbClr val="a2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06840" y="172260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a2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05400" y="171936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1" y="183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9f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02160" y="171756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1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9d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495680" y="1714680"/>
                <a:ext cx="293760" cy="29016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9b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479840" y="1706400"/>
                <a:ext cx="304920" cy="295560"/>
              </a:xfrm>
              <a:custGeom>
                <a:avLst/>
                <a:gdLst/>
                <a:ahLst/>
                <a:rect l="l" t="t" r="r" b="b"/>
                <a:pathLst>
                  <a:path w="192" h="186">
                    <a:moveTo>
                      <a:pt x="10" y="186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92" y="5"/>
                    </a:lnTo>
                    <a:lnTo>
                      <a:pt x="10" y="186"/>
                    </a:lnTo>
                    <a:close/>
                  </a:path>
                </a:pathLst>
              </a:custGeom>
              <a:solidFill>
                <a:srgbClr val="9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494240" y="171144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1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9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87760" y="1709640"/>
                <a:ext cx="293760" cy="28908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5" y="1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96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486320" y="1709640"/>
                <a:ext cx="290520" cy="289080"/>
              </a:xfrm>
              <a:custGeom>
                <a:avLst/>
                <a:gdLst/>
                <a:ahLst/>
                <a:rect l="l" t="t" r="r" b="b"/>
                <a:pathLst>
                  <a:path w="183" h="182">
                    <a:moveTo>
                      <a:pt x="1" y="182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0"/>
                    </a:lnTo>
                    <a:lnTo>
                      <a:pt x="1" y="182"/>
                    </a:lnTo>
                    <a:close/>
                  </a:path>
                </a:pathLst>
              </a:custGeom>
              <a:solidFill>
                <a:srgbClr val="94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79840" y="170640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91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64000" y="1700280"/>
                <a:ext cx="306360" cy="293760"/>
              </a:xfrm>
              <a:custGeom>
                <a:avLst/>
                <a:gdLst/>
                <a:ahLst/>
                <a:rect l="l" t="t" r="r" b="b"/>
                <a:pathLst>
                  <a:path w="193" h="185">
                    <a:moveTo>
                      <a:pt x="10" y="185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93" y="4"/>
                    </a:lnTo>
                    <a:lnTo>
                      <a:pt x="10" y="185"/>
                    </a:lnTo>
                    <a:close/>
                  </a:path>
                </a:pathLst>
              </a:custGeom>
              <a:solidFill>
                <a:srgbClr val="8f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76600" y="170352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5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8f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71920" y="1703520"/>
                <a:ext cx="293760" cy="287280"/>
              </a:xfrm>
              <a:custGeom>
                <a:avLst/>
                <a:gdLst/>
                <a:ahLst/>
                <a:rect l="l" t="t" r="r" b="b"/>
                <a:pathLst>
                  <a:path w="185" h="181">
                    <a:moveTo>
                      <a:pt x="3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8c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68680" y="170028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89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64000" y="1700280"/>
                <a:ext cx="293760" cy="28872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3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2"/>
                    </a:lnTo>
                    <a:close/>
                  </a:path>
                </a:pathLst>
              </a:custGeom>
              <a:solidFill>
                <a:srgbClr val="86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444920" y="1698480"/>
                <a:ext cx="306360" cy="290520"/>
              </a:xfrm>
              <a:custGeom>
                <a:avLst/>
                <a:gdLst/>
                <a:ahLst/>
                <a:rect l="l" t="t" r="r" b="b"/>
                <a:pathLst>
                  <a:path w="193" h="183">
                    <a:moveTo>
                      <a:pt x="1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93" y="1"/>
                    </a:lnTo>
                    <a:lnTo>
                      <a:pt x="12" y="183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57880" y="1700280"/>
                <a:ext cx="293400" cy="28872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5" y="0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449600" y="1698480"/>
                <a:ext cx="297000" cy="290520"/>
              </a:xfrm>
              <a:custGeom>
                <a:avLst/>
                <a:gdLst/>
                <a:ahLst/>
                <a:rect l="l" t="t" r="r" b="b"/>
                <a:pathLst>
                  <a:path w="187" h="183">
                    <a:moveTo>
                      <a:pt x="5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7" y="1"/>
                    </a:lnTo>
                    <a:lnTo>
                      <a:pt x="5" y="183"/>
                    </a:lnTo>
                    <a:close/>
                  </a:path>
                </a:pathLst>
              </a:custGeom>
              <a:solidFill>
                <a:srgbClr val="8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444920" y="1698480"/>
                <a:ext cx="293760" cy="287640"/>
              </a:xfrm>
              <a:custGeom>
                <a:avLst/>
                <a:gdLst/>
                <a:ahLst/>
                <a:rect l="l" t="t" r="r" b="b"/>
                <a:pathLst>
                  <a:path w="185" h="181">
                    <a:moveTo>
                      <a:pt x="3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7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354400" y="1698480"/>
                <a:ext cx="2377800" cy="287640"/>
              </a:xfrm>
              <a:custGeom>
                <a:avLst/>
                <a:gdLst/>
                <a:ahLst/>
                <a:rect l="l" t="t" r="r" b="b"/>
                <a:pathLst>
                  <a:path w="1498" h="181">
                    <a:moveTo>
                      <a:pt x="1317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498" y="0"/>
                    </a:lnTo>
                    <a:lnTo>
                      <a:pt x="1317" y="181"/>
                    </a:lnTo>
                    <a:close/>
                  </a:path>
                </a:pathLst>
              </a:custGeom>
              <a:solidFill>
                <a:srgbClr val="79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59000" y="1986120"/>
                <a:ext cx="2281320" cy="760320"/>
              </a:xfrm>
              <a:custGeom>
                <a:avLst/>
                <a:gdLst/>
                <a:ahLst/>
                <a:rect l="l" t="t" r="r" b="b"/>
                <a:pathLst>
                  <a:path w="1437" h="479">
                    <a:moveTo>
                      <a:pt x="60" y="0"/>
                    </a:moveTo>
                    <a:lnTo>
                      <a:pt x="48" y="2"/>
                    </a:lnTo>
                    <a:lnTo>
                      <a:pt x="36" y="5"/>
                    </a:lnTo>
                    <a:lnTo>
                      <a:pt x="26" y="10"/>
                    </a:lnTo>
                    <a:lnTo>
                      <a:pt x="17" y="17"/>
                    </a:lnTo>
                    <a:lnTo>
                      <a:pt x="11" y="27"/>
                    </a:lnTo>
                    <a:lnTo>
                      <a:pt x="5" y="38"/>
                    </a:lnTo>
                    <a:lnTo>
                      <a:pt x="2" y="48"/>
                    </a:lnTo>
                    <a:lnTo>
                      <a:pt x="0" y="60"/>
                    </a:lnTo>
                    <a:lnTo>
                      <a:pt x="0" y="419"/>
                    </a:lnTo>
                    <a:lnTo>
                      <a:pt x="2" y="431"/>
                    </a:lnTo>
                    <a:lnTo>
                      <a:pt x="5" y="443"/>
                    </a:lnTo>
                    <a:lnTo>
                      <a:pt x="11" y="453"/>
                    </a:lnTo>
                    <a:lnTo>
                      <a:pt x="17" y="462"/>
                    </a:lnTo>
                    <a:lnTo>
                      <a:pt x="26" y="468"/>
                    </a:lnTo>
                    <a:lnTo>
                      <a:pt x="36" y="474"/>
                    </a:lnTo>
                    <a:lnTo>
                      <a:pt x="48" y="477"/>
                    </a:lnTo>
                    <a:lnTo>
                      <a:pt x="60" y="479"/>
                    </a:lnTo>
                    <a:lnTo>
                      <a:pt x="1377" y="479"/>
                    </a:lnTo>
                    <a:lnTo>
                      <a:pt x="1389" y="477"/>
                    </a:lnTo>
                    <a:lnTo>
                      <a:pt x="1399" y="474"/>
                    </a:lnTo>
                    <a:lnTo>
                      <a:pt x="1409" y="468"/>
                    </a:lnTo>
                    <a:lnTo>
                      <a:pt x="1420" y="462"/>
                    </a:lnTo>
                    <a:lnTo>
                      <a:pt x="1427" y="453"/>
                    </a:lnTo>
                    <a:lnTo>
                      <a:pt x="1432" y="443"/>
                    </a:lnTo>
                    <a:lnTo>
                      <a:pt x="1435" y="431"/>
                    </a:lnTo>
                    <a:lnTo>
                      <a:pt x="1437" y="419"/>
                    </a:lnTo>
                    <a:lnTo>
                      <a:pt x="1437" y="60"/>
                    </a:lnTo>
                    <a:lnTo>
                      <a:pt x="1435" y="48"/>
                    </a:lnTo>
                    <a:lnTo>
                      <a:pt x="1432" y="38"/>
                    </a:lnTo>
                    <a:lnTo>
                      <a:pt x="1427" y="27"/>
                    </a:lnTo>
                    <a:lnTo>
                      <a:pt x="1420" y="17"/>
                    </a:lnTo>
                    <a:lnTo>
                      <a:pt x="1409" y="10"/>
                    </a:lnTo>
                    <a:lnTo>
                      <a:pt x="1399" y="5"/>
                    </a:lnTo>
                    <a:lnTo>
                      <a:pt x="1389" y="2"/>
                    </a:lnTo>
                    <a:lnTo>
                      <a:pt x="1377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9c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2464920" y="2104920"/>
              <a:ext cx="1023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Programs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4702320" y="1698480"/>
              <a:ext cx="2568600" cy="1047960"/>
              <a:chOff x="4702320" y="1698480"/>
              <a:chExt cx="2568600" cy="1047960"/>
            </a:xfrm>
          </p:grpSpPr>
          <p:sp>
            <p:nvSpPr>
              <p:cNvPr id="349" name=""/>
              <p:cNvSpPr/>
              <p:nvPr/>
            </p:nvSpPr>
            <p:spPr>
              <a:xfrm>
                <a:off x="4778280" y="1698480"/>
                <a:ext cx="308160" cy="290520"/>
              </a:xfrm>
              <a:custGeom>
                <a:avLst/>
                <a:gdLst/>
                <a:ahLst/>
                <a:rect l="l" t="t" r="r" b="b"/>
                <a:pathLst>
                  <a:path w="194" h="183">
                    <a:moveTo>
                      <a:pt x="12" y="181"/>
                    </a:moveTo>
                    <a:lnTo>
                      <a:pt x="0" y="183"/>
                    </a:lnTo>
                    <a:lnTo>
                      <a:pt x="182" y="1"/>
                    </a:lnTo>
                    <a:lnTo>
                      <a:pt x="194" y="0"/>
                    </a:lnTo>
                    <a:lnTo>
                      <a:pt x="12" y="181"/>
                    </a:lnTo>
                    <a:close/>
                  </a:path>
                </a:pathLst>
              </a:custGeom>
              <a:solidFill>
                <a:srgbClr val="9f0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89440" y="1698480"/>
                <a:ext cx="297000" cy="287640"/>
              </a:xfrm>
              <a:custGeom>
                <a:avLst/>
                <a:gdLst/>
                <a:ahLst/>
                <a:rect l="l" t="t" r="r" b="b"/>
                <a:pathLst>
                  <a:path w="187" h="181">
                    <a:moveTo>
                      <a:pt x="5" y="181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7" y="0"/>
                    </a:lnTo>
                    <a:lnTo>
                      <a:pt x="5" y="181"/>
                    </a:lnTo>
                    <a:close/>
                  </a:path>
                </a:pathLst>
              </a:custGeom>
              <a:solidFill>
                <a:srgbClr val="9f0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84760" y="1698480"/>
                <a:ext cx="295200" cy="290520"/>
              </a:xfrm>
              <a:custGeom>
                <a:avLst/>
                <a:gdLst/>
                <a:ahLst/>
                <a:rect l="l" t="t" r="r" b="b"/>
                <a:pathLst>
                  <a:path w="186" h="183">
                    <a:moveTo>
                      <a:pt x="3" y="181"/>
                    </a:moveTo>
                    <a:lnTo>
                      <a:pt x="0" y="183"/>
                    </a:lnTo>
                    <a:lnTo>
                      <a:pt x="181" y="1"/>
                    </a:lnTo>
                    <a:lnTo>
                      <a:pt x="186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a1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78280" y="1700280"/>
                <a:ext cx="293760" cy="28872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5" y="0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a300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1700280"/>
                <a:ext cx="308160" cy="293760"/>
              </a:xfrm>
              <a:custGeom>
                <a:avLst/>
                <a:gdLst/>
                <a:ahLst/>
                <a:rect l="l" t="t" r="r" b="b"/>
                <a:pathLst>
                  <a:path w="194" h="185">
                    <a:moveTo>
                      <a:pt x="12" y="182"/>
                    </a:moveTo>
                    <a:lnTo>
                      <a:pt x="0" y="185"/>
                    </a:lnTo>
                    <a:lnTo>
                      <a:pt x="182" y="4"/>
                    </a:lnTo>
                    <a:lnTo>
                      <a:pt x="194" y="0"/>
                    </a:lnTo>
                    <a:lnTo>
                      <a:pt x="12" y="182"/>
                    </a:lnTo>
                    <a:close/>
                  </a:path>
                </a:pathLst>
              </a:custGeom>
              <a:solidFill>
                <a:srgbClr val="a60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67120" y="1700280"/>
                <a:ext cx="300240" cy="290520"/>
              </a:xfrm>
              <a:custGeom>
                <a:avLst/>
                <a:gdLst/>
                <a:ahLst/>
                <a:rect l="l" t="t" r="r" b="b"/>
                <a:pathLst>
                  <a:path w="189" h="183">
                    <a:moveTo>
                      <a:pt x="7" y="182"/>
                    </a:moveTo>
                    <a:lnTo>
                      <a:pt x="0" y="183"/>
                    </a:lnTo>
                    <a:lnTo>
                      <a:pt x="183" y="2"/>
                    </a:lnTo>
                    <a:lnTo>
                      <a:pt x="189" y="0"/>
                    </a:lnTo>
                    <a:lnTo>
                      <a:pt x="7" y="182"/>
                    </a:lnTo>
                    <a:close/>
                  </a:path>
                </a:pathLst>
              </a:custGeom>
              <a:solidFill>
                <a:srgbClr val="a60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1703520"/>
                <a:ext cx="298440" cy="290520"/>
              </a:xfrm>
              <a:custGeom>
                <a:avLst/>
                <a:gdLst/>
                <a:ahLst/>
                <a:rect l="l" t="t" r="r" b="b"/>
                <a:pathLst>
                  <a:path w="188" h="183">
                    <a:moveTo>
                      <a:pt x="5" y="181"/>
                    </a:moveTo>
                    <a:lnTo>
                      <a:pt x="0" y="183"/>
                    </a:lnTo>
                    <a:lnTo>
                      <a:pt x="182" y="2"/>
                    </a:lnTo>
                    <a:lnTo>
                      <a:pt x="188" y="0"/>
                    </a:lnTo>
                    <a:lnTo>
                      <a:pt x="5" y="181"/>
                    </a:lnTo>
                    <a:close/>
                  </a:path>
                </a:pathLst>
              </a:custGeom>
              <a:solidFill>
                <a:srgbClr val="ac0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43360" y="1706400"/>
                <a:ext cx="304920" cy="295560"/>
              </a:xfrm>
              <a:custGeom>
                <a:avLst/>
                <a:gdLst/>
                <a:ahLst/>
                <a:rect l="l" t="t" r="r" b="b"/>
                <a:pathLst>
                  <a:path w="192" h="186">
                    <a:moveTo>
                      <a:pt x="10" y="181"/>
                    </a:moveTo>
                    <a:lnTo>
                      <a:pt x="0" y="186"/>
                    </a:lnTo>
                    <a:lnTo>
                      <a:pt x="181" y="5"/>
                    </a:lnTo>
                    <a:lnTo>
                      <a:pt x="192" y="0"/>
                    </a:lnTo>
                    <a:lnTo>
                      <a:pt x="10" y="181"/>
                    </a:lnTo>
                    <a:close/>
                  </a:path>
                </a:pathLst>
              </a:custGeom>
              <a:solidFill>
                <a:srgbClr val="b3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29320" y="1714680"/>
                <a:ext cx="301320" cy="2984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9" y="181"/>
                    </a:moveTo>
                    <a:lnTo>
                      <a:pt x="0" y="188"/>
                    </a:lnTo>
                    <a:lnTo>
                      <a:pt x="182" y="7"/>
                    </a:lnTo>
                    <a:lnTo>
                      <a:pt x="190" y="0"/>
                    </a:lnTo>
                    <a:lnTo>
                      <a:pt x="9" y="181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956280" y="2417760"/>
                <a:ext cx="298440" cy="301680"/>
              </a:xfrm>
              <a:custGeom>
                <a:avLst/>
                <a:gdLst/>
                <a:ahLst/>
                <a:rect l="l" t="t" r="r" b="b"/>
                <a:pathLst>
                  <a:path w="188" h="190">
                    <a:moveTo>
                      <a:pt x="0" y="190"/>
                    </a:moveTo>
                    <a:lnTo>
                      <a:pt x="7" y="181"/>
                    </a:lnTo>
                    <a:lnTo>
                      <a:pt x="188" y="0"/>
                    </a:lnTo>
                    <a:lnTo>
                      <a:pt x="181" y="8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cb00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67440" y="2401920"/>
                <a:ext cx="295200" cy="303120"/>
              </a:xfrm>
              <a:custGeom>
                <a:avLst/>
                <a:gdLst/>
                <a:ahLst/>
                <a:rect l="l" t="t" r="r" b="b"/>
                <a:pathLst>
                  <a:path w="186" h="191">
                    <a:moveTo>
                      <a:pt x="0" y="191"/>
                    </a:moveTo>
                    <a:lnTo>
                      <a:pt x="5" y="181"/>
                    </a:lnTo>
                    <a:lnTo>
                      <a:pt x="186" y="0"/>
                    </a:lnTo>
                    <a:lnTo>
                      <a:pt x="181" y="1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d30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975360" y="2382840"/>
                <a:ext cx="292320" cy="306360"/>
              </a:xfrm>
              <a:custGeom>
                <a:avLst/>
                <a:gdLst/>
                <a:ahLst/>
                <a:rect l="l" t="t" r="r" b="b"/>
                <a:pathLst>
                  <a:path w="184" h="193">
                    <a:moveTo>
                      <a:pt x="0" y="193"/>
                    </a:moveTo>
                    <a:lnTo>
                      <a:pt x="3" y="181"/>
                    </a:lnTo>
                    <a:lnTo>
                      <a:pt x="184" y="0"/>
                    </a:lnTo>
                    <a:lnTo>
                      <a:pt x="181" y="12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da00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975360" y="239076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1" y="183"/>
                    </a:lnTo>
                    <a:lnTo>
                      <a:pt x="183" y="0"/>
                    </a:lnTo>
                    <a:lnTo>
                      <a:pt x="181" y="7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a00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977160" y="238284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2" y="5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c0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980400" y="2363760"/>
                <a:ext cx="290520" cy="306360"/>
              </a:xfrm>
              <a:custGeom>
                <a:avLst/>
                <a:gdLst/>
                <a:ahLst/>
                <a:rect l="l" t="t" r="r" b="b"/>
                <a:pathLst>
                  <a:path w="183" h="193">
                    <a:moveTo>
                      <a:pt x="0" y="193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1" y="12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de0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980400" y="2373480"/>
                <a:ext cx="290520" cy="2966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0" y="187"/>
                    </a:moveTo>
                    <a:lnTo>
                      <a:pt x="0" y="182"/>
                    </a:lnTo>
                    <a:lnTo>
                      <a:pt x="183" y="0"/>
                    </a:lnTo>
                    <a:lnTo>
                      <a:pt x="181" y="6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e0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980400" y="236376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2" y="181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983280" y="1793880"/>
                <a:ext cx="287640" cy="857160"/>
              </a:xfrm>
              <a:custGeom>
                <a:avLst/>
                <a:gdLst/>
                <a:ahLst/>
                <a:rect l="l" t="t" r="r" b="b"/>
                <a:pathLst>
                  <a:path w="181" h="540">
                    <a:moveTo>
                      <a:pt x="0" y="540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1" y="359"/>
                    </a:lnTo>
                    <a:lnTo>
                      <a:pt x="0" y="540"/>
                    </a:lnTo>
                    <a:close/>
                  </a:path>
                </a:pathLst>
              </a:custGeom>
              <a:solidFill>
                <a:srgbClr val="e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980400" y="1774800"/>
                <a:ext cx="290520" cy="306360"/>
              </a:xfrm>
              <a:custGeom>
                <a:avLst/>
                <a:gdLst/>
                <a:ahLst/>
                <a:rect l="l" t="t" r="r" b="b"/>
                <a:pathLst>
                  <a:path w="183" h="193">
                    <a:moveTo>
                      <a:pt x="2" y="19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12"/>
                    </a:lnTo>
                    <a:lnTo>
                      <a:pt x="2" y="193"/>
                    </a:lnTo>
                    <a:close/>
                  </a:path>
                </a:pathLst>
              </a:custGeom>
              <a:solidFill>
                <a:srgbClr val="e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980400" y="1784520"/>
                <a:ext cx="290520" cy="2966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2" y="187"/>
                    </a:moveTo>
                    <a:lnTo>
                      <a:pt x="0" y="182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2" y="187"/>
                    </a:lnTo>
                    <a:close/>
                  </a:path>
                </a:pathLst>
              </a:custGeom>
              <a:solidFill>
                <a:srgbClr val="e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980400" y="1774800"/>
                <a:ext cx="290520" cy="298440"/>
              </a:xfrm>
              <a:custGeom>
                <a:avLst/>
                <a:gdLst/>
                <a:ahLst/>
                <a:rect l="l" t="t" r="r" b="b"/>
                <a:pathLst>
                  <a:path w="183" h="188">
                    <a:moveTo>
                      <a:pt x="0" y="188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6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975360" y="1755720"/>
                <a:ext cx="292320" cy="306360"/>
              </a:xfrm>
              <a:custGeom>
                <a:avLst/>
                <a:gdLst/>
                <a:ahLst/>
                <a:rect l="l" t="t" r="r" b="b"/>
                <a:pathLst>
                  <a:path w="184" h="193">
                    <a:moveTo>
                      <a:pt x="3" y="193"/>
                    </a:moveTo>
                    <a:lnTo>
                      <a:pt x="0" y="183"/>
                    </a:lnTo>
                    <a:lnTo>
                      <a:pt x="181" y="0"/>
                    </a:lnTo>
                    <a:lnTo>
                      <a:pt x="184" y="12"/>
                    </a:lnTo>
                    <a:lnTo>
                      <a:pt x="3" y="193"/>
                    </a:lnTo>
                    <a:close/>
                  </a:path>
                </a:pathLst>
              </a:custGeom>
              <a:solidFill>
                <a:srgbClr val="de0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980400" y="1768320"/>
                <a:ext cx="287280" cy="29376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0" y="185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1" y="4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de0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977160" y="176544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dd0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77160" y="1760400"/>
                <a:ext cx="288720" cy="293760"/>
              </a:xfrm>
              <a:custGeom>
                <a:avLst/>
                <a:gdLst/>
                <a:ahLst/>
                <a:rect l="l" t="t" r="r" b="b"/>
                <a:pathLst>
                  <a:path w="182" h="185">
                    <a:moveTo>
                      <a:pt x="0" y="185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2" y="3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dc0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5360" y="175572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" y="184"/>
                    </a:moveTo>
                    <a:lnTo>
                      <a:pt x="0" y="183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db00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67440" y="1741320"/>
                <a:ext cx="295200" cy="304920"/>
              </a:xfrm>
              <a:custGeom>
                <a:avLst/>
                <a:gdLst/>
                <a:ahLst/>
                <a:rect l="l" t="t" r="r" b="b"/>
                <a:pathLst>
                  <a:path w="186" h="192">
                    <a:moveTo>
                      <a:pt x="5" y="192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6" y="9"/>
                    </a:lnTo>
                    <a:lnTo>
                      <a:pt x="5" y="192"/>
                    </a:lnTo>
                    <a:close/>
                  </a:path>
                </a:pathLst>
              </a:custGeom>
              <a:solidFill>
                <a:srgbClr val="da00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972480" y="1752480"/>
                <a:ext cx="290160" cy="293760"/>
              </a:xfrm>
              <a:custGeom>
                <a:avLst/>
                <a:gdLst/>
                <a:ahLst/>
                <a:rect l="l" t="t" r="r" b="b"/>
                <a:pathLst>
                  <a:path w="183" h="185">
                    <a:moveTo>
                      <a:pt x="2" y="185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5"/>
                    </a:lnTo>
                    <a:close/>
                  </a:path>
                </a:pathLst>
              </a:custGeom>
              <a:solidFill>
                <a:srgbClr val="da00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969240" y="1749600"/>
                <a:ext cx="290520" cy="29016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d8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969240" y="174456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0" y="184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3" y="3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60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967440" y="174132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1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d40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956280" y="1725480"/>
                <a:ext cx="298440" cy="303480"/>
              </a:xfrm>
              <a:custGeom>
                <a:avLst/>
                <a:gdLst/>
                <a:ahLst/>
                <a:rect l="l" t="t" r="r" b="b"/>
                <a:pathLst>
                  <a:path w="188" h="191">
                    <a:moveTo>
                      <a:pt x="7" y="19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8" y="10"/>
                    </a:lnTo>
                    <a:lnTo>
                      <a:pt x="7" y="191"/>
                    </a:lnTo>
                    <a:close/>
                  </a:path>
                </a:pathLst>
              </a:custGeom>
              <a:solidFill>
                <a:srgbClr val="d30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964200" y="173664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2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d30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961320" y="173340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d10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58080" y="173052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cf0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956280" y="1725480"/>
                <a:ext cx="290520" cy="2923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" y="184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3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cd0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40440" y="1714680"/>
                <a:ext cx="303480" cy="298440"/>
              </a:xfrm>
              <a:custGeom>
                <a:avLst/>
                <a:gdLst/>
                <a:ahLst/>
                <a:rect l="l" t="t" r="r" b="b"/>
                <a:pathLst>
                  <a:path w="191" h="188">
                    <a:moveTo>
                      <a:pt x="10" y="188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91" y="7"/>
                    </a:lnTo>
                    <a:lnTo>
                      <a:pt x="10" y="188"/>
                    </a:lnTo>
                    <a:close/>
                  </a:path>
                </a:pathLst>
              </a:custGeom>
              <a:solidFill>
                <a:srgbClr val="cb00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50160" y="172260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cb00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48360" y="171936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1" y="183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c80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945480" y="171756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1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c50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40440" y="1714680"/>
                <a:ext cx="292320" cy="29016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3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4" y="2"/>
                    </a:lnTo>
                    <a:lnTo>
                      <a:pt x="3" y="183"/>
                    </a:lnTo>
                    <a:close/>
                  </a:path>
                </a:pathLst>
              </a:custGeom>
              <a:solidFill>
                <a:srgbClr val="c200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23160" y="1706400"/>
                <a:ext cx="304560" cy="295560"/>
              </a:xfrm>
              <a:custGeom>
                <a:avLst/>
                <a:gdLst/>
                <a:ahLst/>
                <a:rect l="l" t="t" r="r" b="b"/>
                <a:pathLst>
                  <a:path w="192" h="186">
                    <a:moveTo>
                      <a:pt x="11" y="186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92" y="5"/>
                    </a:lnTo>
                    <a:lnTo>
                      <a:pt x="11" y="186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937200" y="171144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931080" y="1709640"/>
                <a:ext cx="293760" cy="28908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4" y="182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5" y="1"/>
                    </a:lnTo>
                    <a:lnTo>
                      <a:pt x="4" y="182"/>
                    </a:lnTo>
                    <a:close/>
                  </a:path>
                </a:pathLst>
              </a:custGeom>
              <a:solidFill>
                <a:srgbClr val="bc0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929280" y="1709640"/>
                <a:ext cx="290520" cy="289080"/>
              </a:xfrm>
              <a:custGeom>
                <a:avLst/>
                <a:gdLst/>
                <a:ahLst/>
                <a:rect l="l" t="t" r="r" b="b"/>
                <a:pathLst>
                  <a:path w="183" h="182">
                    <a:moveTo>
                      <a:pt x="1" y="182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3" y="0"/>
                    </a:lnTo>
                    <a:lnTo>
                      <a:pt x="1" y="182"/>
                    </a:lnTo>
                    <a:close/>
                  </a:path>
                </a:pathLst>
              </a:custGeom>
              <a:solidFill>
                <a:srgbClr val="b900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23160" y="170640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185" h="183">
                    <a:moveTo>
                      <a:pt x="4" y="183"/>
                    </a:moveTo>
                    <a:lnTo>
                      <a:pt x="0" y="181"/>
                    </a:lnTo>
                    <a:lnTo>
                      <a:pt x="183" y="0"/>
                    </a:lnTo>
                    <a:lnTo>
                      <a:pt x="185" y="2"/>
                    </a:lnTo>
                    <a:lnTo>
                      <a:pt x="4" y="183"/>
                    </a:lnTo>
                    <a:close/>
                  </a:path>
                </a:pathLst>
              </a:custGeom>
              <a:solidFill>
                <a:srgbClr val="b60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907320" y="1700280"/>
                <a:ext cx="306360" cy="293760"/>
              </a:xfrm>
              <a:custGeom>
                <a:avLst/>
                <a:gdLst/>
                <a:ahLst/>
                <a:rect l="l" t="t" r="r" b="b"/>
                <a:pathLst>
                  <a:path w="193" h="185">
                    <a:moveTo>
                      <a:pt x="10" y="185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93" y="4"/>
                    </a:lnTo>
                    <a:lnTo>
                      <a:pt x="10" y="185"/>
                    </a:lnTo>
                    <a:close/>
                  </a:path>
                </a:pathLst>
              </a:custGeom>
              <a:solidFill>
                <a:srgbClr val="b3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921360" y="1703520"/>
                <a:ext cx="292320" cy="29052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1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4" y="2"/>
                    </a:lnTo>
                    <a:lnTo>
                      <a:pt x="1" y="183"/>
                    </a:lnTo>
                    <a:close/>
                  </a:path>
                </a:pathLst>
              </a:custGeom>
              <a:solidFill>
                <a:srgbClr val="b3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15240" y="1703520"/>
                <a:ext cx="293760" cy="287280"/>
              </a:xfrm>
              <a:custGeom>
                <a:avLst/>
                <a:gdLst/>
                <a:ahLst/>
                <a:rect l="l" t="t" r="r" b="b"/>
                <a:pathLst>
                  <a:path w="185" h="181">
                    <a:moveTo>
                      <a:pt x="4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4" y="181"/>
                    </a:lnTo>
                    <a:close/>
                  </a:path>
                </a:pathLst>
              </a:custGeom>
              <a:solidFill>
                <a:srgbClr val="af0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12000" y="1700280"/>
                <a:ext cx="290520" cy="2905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2" y="183"/>
                    </a:moveTo>
                    <a:lnTo>
                      <a:pt x="0" y="182"/>
                    </a:lnTo>
                    <a:lnTo>
                      <a:pt x="182" y="0"/>
                    </a:lnTo>
                    <a:lnTo>
                      <a:pt x="183" y="2"/>
                    </a:lnTo>
                    <a:lnTo>
                      <a:pt x="2" y="183"/>
                    </a:lnTo>
                    <a:close/>
                  </a:path>
                </a:pathLst>
              </a:custGeom>
              <a:solidFill>
                <a:srgbClr val="ac0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07320" y="1700280"/>
                <a:ext cx="293760" cy="28872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3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2"/>
                    </a:lnTo>
                    <a:close/>
                  </a:path>
                </a:pathLst>
              </a:custGeom>
              <a:solidFill>
                <a:srgbClr val="a90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888240" y="1698480"/>
                <a:ext cx="306360" cy="290520"/>
              </a:xfrm>
              <a:custGeom>
                <a:avLst/>
                <a:gdLst/>
                <a:ahLst/>
                <a:rect l="l" t="t" r="r" b="b"/>
                <a:pathLst>
                  <a:path w="193" h="183">
                    <a:moveTo>
                      <a:pt x="12" y="183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93" y="1"/>
                    </a:lnTo>
                    <a:lnTo>
                      <a:pt x="12" y="183"/>
                    </a:lnTo>
                    <a:close/>
                  </a:path>
                </a:pathLst>
              </a:custGeom>
              <a:solidFill>
                <a:srgbClr val="a60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02280" y="1700280"/>
                <a:ext cx="292320" cy="288720"/>
              </a:xfrm>
              <a:custGeom>
                <a:avLst/>
                <a:gdLst/>
                <a:ahLst/>
                <a:rect l="l" t="t" r="r" b="b"/>
                <a:pathLst>
                  <a:path w="184" h="182">
                    <a:moveTo>
                      <a:pt x="3" y="182"/>
                    </a:moveTo>
                    <a:lnTo>
                      <a:pt x="0" y="182"/>
                    </a:lnTo>
                    <a:lnTo>
                      <a:pt x="181" y="0"/>
                    </a:lnTo>
                    <a:lnTo>
                      <a:pt x="184" y="0"/>
                    </a:lnTo>
                    <a:lnTo>
                      <a:pt x="3" y="182"/>
                    </a:lnTo>
                    <a:close/>
                  </a:path>
                </a:pathLst>
              </a:custGeom>
              <a:solidFill>
                <a:srgbClr val="a60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92920" y="1698480"/>
                <a:ext cx="297000" cy="290520"/>
              </a:xfrm>
              <a:custGeom>
                <a:avLst/>
                <a:gdLst/>
                <a:ahLst/>
                <a:rect l="l" t="t" r="r" b="b"/>
                <a:pathLst>
                  <a:path w="187" h="183">
                    <a:moveTo>
                      <a:pt x="6" y="183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87" y="1"/>
                    </a:lnTo>
                    <a:lnTo>
                      <a:pt x="6" y="183"/>
                    </a:lnTo>
                    <a:close/>
                  </a:path>
                </a:pathLst>
              </a:custGeom>
              <a:solidFill>
                <a:srgbClr val="a1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88240" y="1698480"/>
                <a:ext cx="293760" cy="287640"/>
              </a:xfrm>
              <a:custGeom>
                <a:avLst/>
                <a:gdLst/>
                <a:ahLst/>
                <a:rect l="l" t="t" r="r" b="b"/>
                <a:pathLst>
                  <a:path w="185" h="181">
                    <a:moveTo>
                      <a:pt x="3" y="181"/>
                    </a:moveTo>
                    <a:lnTo>
                      <a:pt x="0" y="181"/>
                    </a:lnTo>
                    <a:lnTo>
                      <a:pt x="181" y="0"/>
                    </a:lnTo>
                    <a:lnTo>
                      <a:pt x="185" y="0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9c0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97360" y="1698480"/>
                <a:ext cx="2378160" cy="287640"/>
              </a:xfrm>
              <a:custGeom>
                <a:avLst/>
                <a:gdLst/>
                <a:ahLst/>
                <a:rect l="l" t="t" r="r" b="b"/>
                <a:pathLst>
                  <a:path w="1498" h="181">
                    <a:moveTo>
                      <a:pt x="1317" y="181"/>
                    </a:moveTo>
                    <a:lnTo>
                      <a:pt x="0" y="181"/>
                    </a:lnTo>
                    <a:lnTo>
                      <a:pt x="182" y="0"/>
                    </a:lnTo>
                    <a:lnTo>
                      <a:pt x="1498" y="0"/>
                    </a:lnTo>
                    <a:lnTo>
                      <a:pt x="1317" y="181"/>
                    </a:lnTo>
                    <a:close/>
                  </a:path>
                </a:pathLst>
              </a:custGeom>
              <a:solidFill>
                <a:srgbClr val="970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02320" y="1986120"/>
                <a:ext cx="2280960" cy="760320"/>
              </a:xfrm>
              <a:custGeom>
                <a:avLst/>
                <a:gdLst/>
                <a:ahLst/>
                <a:rect l="l" t="t" r="r" b="b"/>
                <a:pathLst>
                  <a:path w="1437" h="479">
                    <a:moveTo>
                      <a:pt x="60" y="0"/>
                    </a:moveTo>
                    <a:lnTo>
                      <a:pt x="48" y="2"/>
                    </a:lnTo>
                    <a:lnTo>
                      <a:pt x="36" y="5"/>
                    </a:lnTo>
                    <a:lnTo>
                      <a:pt x="26" y="10"/>
                    </a:lnTo>
                    <a:lnTo>
                      <a:pt x="17" y="17"/>
                    </a:lnTo>
                    <a:lnTo>
                      <a:pt x="11" y="27"/>
                    </a:lnTo>
                    <a:lnTo>
                      <a:pt x="6" y="38"/>
                    </a:lnTo>
                    <a:lnTo>
                      <a:pt x="2" y="48"/>
                    </a:lnTo>
                    <a:lnTo>
                      <a:pt x="0" y="60"/>
                    </a:lnTo>
                    <a:lnTo>
                      <a:pt x="0" y="419"/>
                    </a:lnTo>
                    <a:lnTo>
                      <a:pt x="2" y="431"/>
                    </a:lnTo>
                    <a:lnTo>
                      <a:pt x="6" y="443"/>
                    </a:lnTo>
                    <a:lnTo>
                      <a:pt x="11" y="453"/>
                    </a:lnTo>
                    <a:lnTo>
                      <a:pt x="17" y="462"/>
                    </a:lnTo>
                    <a:lnTo>
                      <a:pt x="26" y="468"/>
                    </a:lnTo>
                    <a:lnTo>
                      <a:pt x="36" y="474"/>
                    </a:lnTo>
                    <a:lnTo>
                      <a:pt x="48" y="477"/>
                    </a:lnTo>
                    <a:lnTo>
                      <a:pt x="60" y="479"/>
                    </a:lnTo>
                    <a:lnTo>
                      <a:pt x="1377" y="479"/>
                    </a:lnTo>
                    <a:lnTo>
                      <a:pt x="1389" y="477"/>
                    </a:lnTo>
                    <a:lnTo>
                      <a:pt x="1399" y="474"/>
                    </a:lnTo>
                    <a:lnTo>
                      <a:pt x="1410" y="468"/>
                    </a:lnTo>
                    <a:lnTo>
                      <a:pt x="1420" y="462"/>
                    </a:lnTo>
                    <a:lnTo>
                      <a:pt x="1427" y="453"/>
                    </a:lnTo>
                    <a:lnTo>
                      <a:pt x="1432" y="443"/>
                    </a:lnTo>
                    <a:lnTo>
                      <a:pt x="1435" y="431"/>
                    </a:lnTo>
                    <a:lnTo>
                      <a:pt x="1437" y="419"/>
                    </a:lnTo>
                    <a:lnTo>
                      <a:pt x="1437" y="60"/>
                    </a:lnTo>
                    <a:lnTo>
                      <a:pt x="1435" y="48"/>
                    </a:lnTo>
                    <a:lnTo>
                      <a:pt x="1432" y="38"/>
                    </a:lnTo>
                    <a:lnTo>
                      <a:pt x="1427" y="27"/>
                    </a:lnTo>
                    <a:lnTo>
                      <a:pt x="1420" y="17"/>
                    </a:lnTo>
                    <a:lnTo>
                      <a:pt x="1410" y="10"/>
                    </a:lnTo>
                    <a:lnTo>
                      <a:pt x="1399" y="5"/>
                    </a:lnTo>
                    <a:lnTo>
                      <a:pt x="1389" y="2"/>
                    </a:lnTo>
                    <a:lnTo>
                      <a:pt x="1377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c300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4907880" y="2111400"/>
              <a:ext cx="1204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ervic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OS lay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3403440" cy="44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haracteristics of Operating System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ory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work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Interrup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The interrupt handler must save the machine state, do some processing, then call the process scheduler and dispatc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When an interrupt occ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1.the processor hardware makes a quick copy of the program counter and CPU regis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2.the hardware switches to kernel mode and jumps to the interrupt service rout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3.the ISR is usually very short. It may inform a device driver that it received the interrupt; it may just increment  some clock coun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4.next the ISR calls the scheduler, which decides which process to r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5.the scheduler calls the dispatcher, and new process (or maybe the same process) resumes where it left of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An important goal of the OS is to hide interrupts from the user---and from user-level proces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Processes have their own memory area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314440" y="2057400"/>
            <a:ext cx="5534280" cy="336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Processes wait and run – when chance com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919240" y="2479680"/>
            <a:ext cx="4319640" cy="24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Ov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view of main OS-es: main Microsoft OS-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S-DO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text-based desktop operating system made by Microsoft that runs on Intel 80x86. Only low en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ers can run on this opera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98, Windows 95, and Windows 3.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desktop operating systems made by Microsoft that run on Intel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ntium and Intel 80x86. Only low end servers can run on these operating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Windows NT Server, and Windows NT Server Enterprise Edition are server and workstation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ng systems made by Microsoft that run on Intel Pentium, Intel 80x86, and DEC Alp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200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Professional, Windows 2000 Server, and Windows 2000 Advanced Server are server an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orkstation operating systems made by Microsoft that run on the Intel Pent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Windows XP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er an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orkstation operating system made by Microsoft that run on the Intel Pentium.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Converges 95 and NT/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OS-es: IBM PC os-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-DOS-200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text-based desktop operating system made by IBM as an update of the older MS-DOS. It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uns on Intel 80x86. Only low end servers can run on this opera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S/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high performance desktop and high end operating system made by IBM that runs on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el Pentium and Intel 80x8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Assembler: s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umto ja Intel 386, 486, Pentium, ...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86 has few registers, argument is sent from ordinary memory. Result is sent to register %edx.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_sum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shl %ebp         ; We create ''framepointer’’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ovl  %esp,%ebp   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ovl  8(%ebp),%ecx ; Take 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orl  %eax,%eax    ; sum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orl  %edx,%edx    ; i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mpl  %ecx,%eax    ; If i&gt;n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g L3              ; ... goto L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alig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5:    addl  %edx,%eax    ; sum = sum +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cl  %edx         ; i = i+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mpl  %ecx,%edx    ; If i&lt;=n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le L5             ; ... goto L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3:    leave              ; Restore eb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                ; Ready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OS-es: App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intosh O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9, OS 8, OS 7, and OS 6 are desktop operating systems made by Apple Computers that run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on Motorola/IBM PowerPC and Motorola 680x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hapsod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UNIX-based operating system that includes capabilities from the NeXT an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acintosh operating systems. Rhapsody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was a foundation for OS X of the Macinto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intosh OS X (te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desktop operating system based on Rhapsody. Macintosh OS X is made by Appl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uters and run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n Motorola/IBM PowerP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OS-es: main free UNIX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free version of UNIX that runs on Intel Pentium, Intel 80x86, Motorola/IBM PowerPC,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torola 680x0, Sun SPARC, SGI MIPS, DEC Alpha, HP PA-RISC, DEC VAX, ARM, API 1000+,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CL-PS71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BS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free version of UNIX that runs on Intel Pentium and Intel 8048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BS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free version of UNIX that runs on Intel Pentium, Intel 80486, Intel 80386,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torola/IBM PowerPC, Motorola 680x0, Sun SPARC, HP PA-RISC, DEC VAX, and A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nBS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free version of UNIX that runs on Intel Pentium, Intel 80486, Intel 80386,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torola/IBM PowerPC, Motorola 680x0, Sun SPARC, HP PA-RISC, DEC VAX, and A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NU Hur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free UNIX-based opera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OS-es: main common commercial UNIX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ari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UNIX-based operating system made by Sun Computers that runs on Sun SPARC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and Intel Pent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-O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n older text-based UNIX that runs on Sun SPARC. Solaris is an enhancement of Sun-OS that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ludes a graphic user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IBM’s version of UN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-U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UNIX-based operating system made by Hewlett-Packard that runs on HP PA RISC.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LTRI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UNIX-based operating system made by DEC. ULTRIX has been replaced by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gital UN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Major handheld operating system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Pal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Windows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OS-es: less comm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RI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UNIX-based operating system made by SGI that runs on SGI M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UNIX-based operating system made by NeXT that runs on Intel Pentium, Intel 80486, an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torola 68040. OpenSTEP runs on Intel Pentium, Intel 80486, Motorola 68040, Sun SPARC, and HP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PA RI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V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mainframe operating system made by 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high performance operating system made by DEC that runs on DEC VAX. OpenVM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n updated version of V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War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“is a dedicated network operating system” that runs on Intel Pentium, Intel 80486, and Intel 8038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O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high performance desktop operating system made by Be that runs on Motorola/IBM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PowerPC and Intel Pentium. Only low end servers can run on this opera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igaO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n old but popular operating system that is being resurrected. Only low end server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can run on this opera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How Unix sprea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fter AT&amp;T was forced to abandon commercial computing as part of an antitrust settlement, AT&amp;T’s UNIX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s made available for free to the academic community. Because UNIX had been designed in a way that made it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asy to “port” (move) to new hardware, colleges and universities that switched to UNIX were able to run a singl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ng system on all of their computers, even if their computers came from multiple manufactur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ventually UNIX spread into the business community, and pushed aside almost all proprietary mainframe an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nicomputer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ating systems. Only IBM’s MVS and DEC’s OpenVMS survived in common use (MVS becaus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the sheer number of installations using it and OpenVMS in the banking and financial community because of it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gh reliability, security, and preservation of data). Even IBM and DEC ended up offering their own versions of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IX as well as their proprietary operating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UNIX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families till 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1993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056040" y="907920"/>
            <a:ext cx="3413160" cy="532944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848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inux &amp; FreeBSD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aris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384840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tribute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erent e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mo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der hardwar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V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friend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38400" y="907920"/>
            <a:ext cx="384804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B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uumikmeesk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edition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Stab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ll hardwar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SD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ically better integ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atibility of Operating System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tributing resources with SMB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mba package in 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-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emulators in UNIX: Wine, Wa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of foreign/alien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tibility with Macintosh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atalk pacakage in 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 and instructions on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ing Windows NT Server with Linu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citnews.unl.edu/linux/LinuxPresent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amb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90792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fi.samba.org/samb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ization of SMB and CIFS protocols in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ables replacing of NT and OS/2 Warp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MB file and printing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BIOS type nameserver, also “Master Brows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n participate in NT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orts authentication with (non-)encrypted pass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DC functionality is still par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T: The Samba Web Administration Tool /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 tool with web GUI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samba.org/samba/docs/man/Samba-HOWTO-Collection/SWAT.htm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igh-level l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anguag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utomate and make it easier to write masses of “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ordinar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” pro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cedur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which are necessary to do in 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n’t give as much control of the machine as assembl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gh-level languages are at a different level of abstraction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ser to machine level and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unconveni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 Fortran, C  (portable assemb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ore absrta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nd conveni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 Lisp, Ada, ML, Java,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How is a program written in language X is executed</a:t>
            </a:r>
            <a:r>
              <a:rPr b="1" lang="et-EE" sz="2000" spc="-1" strike="noStrike">
                <a:solidFill>
                  <a:srgbClr val="000099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in mind that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uter can execute only machine-language program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ally there are two variants of executing a program in language X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ing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gram called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rpre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s a file in language X and executes it line by lin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: old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BA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ing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gram called the compiler transforms the program in language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machine code file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Y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wards the machine-code program Y is executed. For example: C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B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ing a program is a bout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10-2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s slower than executing compiled cod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ally a program in any language can be either interpreted or compiled.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ractice sometimes interpreting, sometimes compilation is preferred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How to execute a program in language 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mise variant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iler compiles file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ode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wards the intermediate code Y is interpreted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(Python, Jav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er interprets intermediate code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execution time compiles part of Y into machine cod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is afterwards executed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(Java) 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-called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just-in-time compi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JIT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Distinctions in languages</a:t>
            </a:r>
            <a:r>
              <a:rPr b="1" lang="et-EE" sz="24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 basic issu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ntax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write, e.g.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f .. then .. els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or another language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eman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meaning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correctly written program actually doe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braries)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kind of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 program stubs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easily available for that language or already come along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anguages: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ypical things offered by almost each languag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nt, char et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–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-id, ‘c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‘a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tring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“aaa123bb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[1]=2; a[2]=20; a[3]=15;  y=2; x=a[y]+a[1]+3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on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x = (y*2) – (5+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y control structure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ic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 if ... then ... 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  while(x&lt;10)  x=x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ion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ef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ion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 i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int x) { return x * x * x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g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  x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1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3))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ive usag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nt fact(int x) { if (x&lt;=0) return 1; else return x*(fact(x-1)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anguages</a:t>
            </a:r>
            <a:r>
              <a:rPr b="1" lang="et-EE" sz="20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xamples of extra possibilities in various languag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 bit-operation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memory access 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complex data type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l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, hash ta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, etc.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Lisp, Scheme,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 constructs for string operation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Perl, PH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C++, Java, C#, Python, Lis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le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ly connected to object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): C++, Java, C#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-processing constructs 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(exceptions): Python, Java, C#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used data thrown out (and collected) </a:t>
            </a:r>
            <a:br>
              <a:rPr sz="1600"/>
            </a:b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(Java, Python, Lisp,  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ilt-in support for for parallel-programming: 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Java, C#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-time constructs 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Templates” : PHP, JSP, Py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ucting programs while executing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Lisp, Sch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c rules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Pro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zy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evaluation method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: Miranda, Hope, Hask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Pattern matching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way of function definition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): ML, Hask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dre domiczi</cp:lastModifiedBy>
  <cp:lastPrinted>1999-08-30T07:54:19Z</cp:lastPrinted>
  <dcterms:modified xsi:type="dcterms:W3CDTF">2006-11-15T21:53:06Z</dcterms:modified>
  <cp:revision>116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ttu.ee/it/vorgutarkvara/wai2030/</vt:lpwstr>
  </property>
  <property fmtid="{D5CDD505-2E9C-101B-9397-08002B2CF9AE}" pid="9" name="LinkColor">
    <vt:r8>16711782</vt:r8>
  </property>
  <property fmtid="{D5CDD505-2E9C-101B-9397-08002B2CF9AE}" pid="10" name="MailAddress">
    <vt:lpwstr>tammet@cc.ttu.e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ty\ityldkursus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